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gif" ContentType="image/gif"/>
  <Override PartName="/ppt/media/image12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638B-9D5A-47C4-8071-6D0EAF4C1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F12-7B4C-4344-9A1D-DCDEE46A5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E47-AB0D-4CC3-AEA4-A5895C963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876F-299F-4EA8-ADED-7E88375C4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5D77B-B54A-4BC7-94DB-27D2FC2F2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45BD-CF82-4F2B-942A-0C2BBB82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6835-5F5B-41F1-B3FE-88EEBD52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6F4AA-66E7-4DD3-A3D0-7D905490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50C44-153A-47BD-B2E5-5B99AB51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31618-D040-4408-A2B0-A6AAE7AD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09AA-F102-44EF-8700-B55D97B6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85524-B4A5-4348-89E4-D859104BF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390B-F0C2-4CA8-B5ED-760A0EB8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966-46BD-4A37-A84B-806E3CAC1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EFFBD-AAB4-4E3D-8C09-78638EA1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7831-81AD-4B12-A35B-95004561E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6376-D998-45CD-AC2A-8B9B0703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BD1-6A2A-4AD8-8DE1-62E1A648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9A5C-463D-4915-BA56-1CD92698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562-A909-413C-9F97-796D567C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49A-D07B-42D6-8770-7D46B261E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AF34-E293-4B31-93CE-9F724ECE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213-6F51-44CB-8D38-4BF6F6F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973A-D5B1-4873-9C78-035F7B88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46F9-27E0-4281-854B-E52B425EB8D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>
                <a:gd name="textAreaLeft" fmla="*/ 0 w 3992400"/>
                <a:gd name="textAreaRight" fmla="*/ 3992760 w 3992400"/>
                <a:gd name="textAreaTop" fmla="*/ 0 h 3127320"/>
                <a:gd name="textAreaBottom" fmla="*/ 3127680 h 3127320"/>
              </a:gdLst>
              <a:ahLst/>
              <a:rect l="textAreaLeft" t="textAreaTop" r="textAreaRight" b="textAreaBottom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>
                <a:gd name="textAreaLeft" fmla="*/ 0 w 3352680"/>
                <a:gd name="textAreaRight" fmla="*/ 3353040 w 3352680"/>
                <a:gd name="textAreaTop" fmla="*/ 0 h 2546280"/>
                <a:gd name="textAreaBottom" fmla="*/ 2546280 h 2546280"/>
              </a:gdLst>
              <a:ahLst/>
              <a:rect l="textAreaLeft" t="textAreaTop" r="textAreaRight" b="textAreaBottom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>
                <a:gd name="textAreaLeft" fmla="*/ 0 w 5823000"/>
                <a:gd name="textAreaRight" fmla="*/ 5823360 w 5823000"/>
                <a:gd name="textAreaTop" fmla="*/ 0 h 1496880"/>
                <a:gd name="textAreaBottom" fmla="*/ 1497240 h 1496880"/>
              </a:gdLst>
              <a:ahLst/>
              <a:rect l="textAreaLeft" t="textAreaTop" r="textAreaRight" b="textAreaBottom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>
                <a:gd name="textAreaLeft" fmla="*/ 0 w 1544760"/>
                <a:gd name="textAreaRight" fmla="*/ 1545120 w 1544760"/>
                <a:gd name="textAreaTop" fmla="*/ 0 h 1896840"/>
                <a:gd name="textAreaBottom" fmla="*/ 1897200 h 1896840"/>
              </a:gdLst>
              <a:ahLst/>
              <a:rect l="textAreaLeft" t="textAreaTop" r="textAreaRight" b="textAreaBottom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>
                <a:gd name="textAreaLeft" fmla="*/ 0 w 4079880"/>
                <a:gd name="textAreaRight" fmla="*/ 4080240 w 4079880"/>
                <a:gd name="textAreaTop" fmla="*/ 0 h 3597480"/>
                <a:gd name="textAreaBottom" fmla="*/ 3597840 h 3597480"/>
              </a:gdLst>
              <a:ahLst/>
              <a:rect l="textAreaLeft" t="textAreaTop" r="textAreaRight" b="textAreaBottom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>
                <a:gd name="textAreaLeft" fmla="*/ 0 w 3468960"/>
                <a:gd name="textAreaRight" fmla="*/ 3469320 w 3468960"/>
                <a:gd name="textAreaTop" fmla="*/ 0 h 2394000"/>
                <a:gd name="textAreaBottom" fmla="*/ 2394360 h 2394000"/>
              </a:gdLst>
              <a:ahLst/>
              <a:rect l="textAreaLeft" t="textAreaTop" r="textAreaRight" b="textAreaBottom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>
                <a:gd name="textAreaLeft" fmla="*/ 0 w 1295280"/>
                <a:gd name="textAreaRight" fmla="*/ 1295640 w 1295280"/>
                <a:gd name="textAreaTop" fmla="*/ 0 h 1279440"/>
                <a:gd name="textAreaBottom" fmla="*/ 1279800 h 1279440"/>
              </a:gdLst>
              <a:ahLst/>
              <a:rect l="textAreaLeft" t="textAreaTop" r="textAreaRight" b="textAreaBottom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>
                <a:gd name="textAreaLeft" fmla="*/ 0 w 1209600"/>
                <a:gd name="textAreaRight" fmla="*/ 1209960 w 120960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>
                <a:gd name="textAreaLeft" fmla="*/ 0 w 5051520"/>
                <a:gd name="textAreaRight" fmla="*/ 5051880 w 5051520"/>
                <a:gd name="textAreaTop" fmla="*/ 0 h 1182600"/>
                <a:gd name="textAreaBottom" fmla="*/ 1182960 h 1182600"/>
              </a:gdLst>
              <a:ahLst/>
              <a:rect l="textAreaLeft" t="textAreaTop" r="textAreaRight" b="textAreaBottom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533520"/>
                <a:gd name="textAreaBottom" fmla="*/ 533880 h 53352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>
                <a:gd name="textAreaLeft" fmla="*/ 0 w 5060880"/>
                <a:gd name="textAreaRight" fmla="*/ 5060880 w 5060880"/>
                <a:gd name="textAreaTop" fmla="*/ 0 h 3213000"/>
                <a:gd name="textAreaBottom" fmla="*/ 3213360 h 3213000"/>
              </a:gdLst>
              <a:ahLst/>
              <a:rect l="textAreaLeft" t="textAreaTop" r="textAreaRight" b="textAreaBottom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>
                <a:gd name="textAreaLeft" fmla="*/ 0 w 3403440"/>
                <a:gd name="textAreaRight" fmla="*/ 3403800 w 3403440"/>
                <a:gd name="textAreaTop" fmla="*/ 0 h 2836800"/>
                <a:gd name="textAreaBottom" fmla="*/ 2836800 h 2836800"/>
              </a:gdLst>
              <a:ahLst/>
              <a:rect l="textAreaLeft" t="textAreaTop" r="textAreaRight" b="textAreaBottom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>
                <a:gd name="textAreaLeft" fmla="*/ 0 w 4489560"/>
                <a:gd name="textAreaRight" fmla="*/ 4489920 w 4489560"/>
                <a:gd name="textAreaTop" fmla="*/ 0 h 3755880"/>
                <a:gd name="textAreaBottom" fmla="*/ 3756240 h 3755880"/>
              </a:gdLst>
              <a:ahLst/>
              <a:rect l="textAreaLeft" t="textAreaTop" r="textAreaRight" b="textAreaBottom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>
                <a:gd name="textAreaLeft" fmla="*/ 0 w 3432240"/>
                <a:gd name="textAreaRight" fmla="*/ 3432600 w 3432240"/>
                <a:gd name="textAreaTop" fmla="*/ 0 h 3070080"/>
                <a:gd name="textAreaBottom" fmla="*/ 3070440 h 3070080"/>
              </a:gdLst>
              <a:ahLst/>
              <a:rect l="textAreaLeft" t="textAreaTop" r="textAreaRight" b="textAreaBottom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31DF2-2821-48EA-B969-F68BB430358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yandex.ru/search?p=1&amp;ed=1&amp;text=&#1087;&#1088;&#1080;&#1084;&#1077;&#1088;&#1099;%20&#1073;&#1072;&#1088;&#1100;&#1077;&#1088;&#1086;&#1074;%20&#1074;%20&#1086;&#1073;&#1097;&#1077;&#1085;&#1080;&#1080;&amp;spsite=fake-005-870270.ru&amp;img_url=narodna.pravda.com.ua%2Fimages%2Fdoc%2F07389-picture1.jpg&amp;rpt=simag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eec94"/>
                </a:solidFill>
                <a:latin typeface="Times New Roman"/>
              </a:rPr>
              <a:t>Барьеры общения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Заберите у меня все, чем я обладаю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Но оставьте мне мою речь.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 скоро я обрету все, что имел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Даниэл Уэбсте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Скругленный прямоугольник 5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Разное социальное положение партнеров …</a:t>
            </a: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жет препятствовать общению, если один из них привык испытывать трепет перед начальств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отрицательных эмоций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общении с расстроенным челове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Picture 5" descr="http://im7-tub.yandex.net/i?id=92133543&amp;tov=7"/>
          <p:cNvPicPr/>
          <p:nvPr/>
        </p:nvPicPr>
        <p:blipFill>
          <a:blip r:embed="rId1"/>
          <a:stretch/>
        </p:blipFill>
        <p:spPr>
          <a:xfrm>
            <a:off x="5148360" y="3699000"/>
            <a:ext cx="3744720" cy="24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остояние здоровья челове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ям не составляет большого труда по внешним признакам догадаться о том, что происходит с человеком, выбрать соответствующий тон, слова или сократить время общения, чтобы не утомлять собеседника, которому нездоровитс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сихологическая защит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ызвана желанием собеседника защититься от ва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Grafik 4" descr="heidelberg.jpg"/>
          <p:cNvPicPr/>
          <p:nvPr/>
        </p:nvPicPr>
        <p:blipFill>
          <a:blip r:embed="rId1"/>
          <a:stretch/>
        </p:blipFill>
        <p:spPr>
          <a:xfrm>
            <a:off x="4716360" y="3573360"/>
            <a:ext cx="3959280" cy="26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установки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когда деловой партнер обладает негативной установкой по отношению к вам или к фирме, представителем которой вы являетес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двойника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лючается в том, что мы невольно судим о каждом человеке по себе, ждем от делового партнера такого поступка, какой совершили бы на его мест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Коммуникативные барьеры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емантический барьер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выражать свои мысл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лохая техника реч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умение слушать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модальносте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характер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Picture 4" descr="9"/>
          <p:cNvPicPr/>
          <p:nvPr/>
        </p:nvPicPr>
        <p:blipFill>
          <a:blip r:embed="rId1"/>
          <a:stretch/>
        </p:blipFill>
        <p:spPr>
          <a:xfrm>
            <a:off x="5508720" y="3933720"/>
            <a:ext cx="30956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Семантический барьер …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бое слово имеет обычно не одно, а несколько значений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смысловые» поля у разных людей разны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пользуются жаргонные слова, тайные языки, часто употребляемые в какой-либо группе образы, приме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выражать свои мысли (логический барьер) ...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.. возникает, если человек, с нашей точки зрения, говорит или делает что-то в противоречии с правилами логики; тогда мы не только отказываемся его понимать, но и эмоционально воспринимаем его слова отрицательно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Рисунок 7" descr="http://im2-tub.yandex.net/i?id=153384587&amp;tov=2"/>
          <p:cNvPicPr/>
          <p:nvPr/>
        </p:nvPicPr>
        <p:blipFill>
          <a:blip r:embed="rId1"/>
          <a:stretch/>
        </p:blipFill>
        <p:spPr>
          <a:xfrm>
            <a:off x="6156360" y="4292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Плохая техника речи (фонетический барьер)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на иностранном языке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пользуют большое число иностранных слов или специальную терминологию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гда говорят быстро, невнятно и с акцент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апример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невыразительная речь, речь-скороговорка, звуки-паразиты, дефекты реч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"Барьер" общения – это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ое препятствие на пути адекватной передачи информации между партнерами по общению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356000" y="4076640"/>
            <a:ext cx="42498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Неумение слушать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оявляется в том, что партнер перебивает, начинает говорить о своем или уходит в собственные мысли и вовсе не реагирует на ваши слов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Picture 9" descr="http://proletarism.org/images/1_33.gif"/>
          <p:cNvPicPr/>
          <p:nvPr/>
        </p:nvPicPr>
        <p:blipFill>
          <a:blip r:embed="rId1"/>
          <a:stretch/>
        </p:blipFill>
        <p:spPr>
          <a:xfrm>
            <a:off x="6361200" y="3714840"/>
            <a:ext cx="21351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модальностей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человек не задумывается о приоритетном канале восприятия информаци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3" name="Picture 4" descr="TheSimpsons"/>
          <p:cNvPicPr/>
          <p:nvPr/>
        </p:nvPicPr>
        <p:blipFill>
          <a:blip r:embed="rId1"/>
          <a:stretch/>
        </p:blipFill>
        <p:spPr>
          <a:xfrm>
            <a:off x="5364000" y="3860640"/>
            <a:ext cx="352908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 характера</a:t>
            </a: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юди с ярко выраженными особенностями темперамента могут быть неудобными собеседникам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Times New Roman"/>
              </a:rPr>
              <a:t>Невежливость –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о тот барьер, который мешает и правильно воспринимать партнера, и понимать, что он говорит, и взаимодействовать с ни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eec94"/>
                </a:solidFill>
                <a:latin typeface="Times New Roman"/>
              </a:rPr>
              <a:t>В процессе делового общения различают следующие «барьеры»:</a:t>
            </a:r>
            <a:endParaRPr b="1" lang="en-US" sz="2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авторитет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избегание»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непонимание»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i-main-pic" descr="Картинка 198 из 758"/>
          <p:cNvPicPr/>
          <p:nvPr/>
        </p:nvPicPr>
        <p:blipFill>
          <a:blip r:embed="rId1"/>
          <a:stretch/>
        </p:blipFill>
        <p:spPr>
          <a:xfrm>
            <a:off x="5292720" y="3645000"/>
            <a:ext cx="3311640" cy="29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авторитет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делив всех людей на авторитетных и неавторитетных, человек доверяет только первым и отказывает в доверии другим. 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i-main-pic" descr="Картинка 129 из 64000"/>
          <p:cNvPicPr/>
          <p:nvPr/>
        </p:nvPicPr>
        <p:blipFill>
          <a:blip r:embed="rId1"/>
          <a:stretch/>
        </p:blipFill>
        <p:spPr>
          <a:xfrm>
            <a:off x="5940360" y="3716280"/>
            <a:ext cx="26161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Отнесение человека к авторитетным зависит от следующих факторов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Социального положения (статуса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скренност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влекательного внешнего ви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желательного отношения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омпетентности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eec94"/>
                </a:solidFill>
                <a:latin typeface="Times New Roman"/>
              </a:rPr>
              <a:t>Барьер «избегание»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еловек избегает источников воздействия, уклоняется от контакта с собеседником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становлено, что чаще всего барьер обусловлен той или иной степенью невнимания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Times New Roman"/>
              </a:rPr>
              <a:t>Привлечь внимание можно при использовании: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нейтральной фразы»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авлечения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рием «зрительного контакта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«непонимание»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частую источник информации заслуживает доверия, авторитетен, однако информация «не доходит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0" name="i-main-pic" descr="Картинка 385 из 64000"/>
          <p:cNvPicPr/>
          <p:nvPr/>
        </p:nvPicPr>
        <p:blipFill>
          <a:blip r:embed="rId1"/>
          <a:stretch/>
        </p:blipFill>
        <p:spPr>
          <a:xfrm>
            <a:off x="2556000" y="3429000"/>
            <a:ext cx="355284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Наши типичные ошибки: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ые ожидания в отношении партне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м кажется, что партнер должен догадываться о том, что мы чувствуе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е улавливаем подтекст разговор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если поведение человека нам неприятно, нам кажется, что он плохо к нам относится или даже делает это нам назло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мы стараемся оправдать ожидания собеседник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ы взаимодействия: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мотивационны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тилей общения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некомпетентности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К какому типу собеседников относитесь вы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А (видеть): 1, 5, 8, 10, 12, 14, 19, 21, 23, 27, 31, 32, 39, 40, 42, 4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В (ощущать): 3, 4, 9, 11, 16, 18, 22, 25, 28, 29, 30, 35, 38, 41, 44, 4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ип С (слышать): 2, 6, 7, 13, 15, 17, 20, 24, 26, 33, 34, 36, 37, 43, 46, 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Мотивационны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, если у партнеров разные мотивы вступления в контакт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пример: один заинтересован в развитии общего дела, а другого интересует только немедленная прибыль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тический барьер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тогда, когда взаимодействию с партнером мешает его нравственная позиция, несовместимая с вашей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5" descr="1"/>
          <p:cNvPicPr/>
          <p:nvPr/>
        </p:nvPicPr>
        <p:blipFill>
          <a:blip r:embed="rId1"/>
          <a:stretch/>
        </p:blipFill>
        <p:spPr>
          <a:xfrm>
            <a:off x="395280" y="3933720"/>
            <a:ext cx="388764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стилей общения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висит от темперамента, характера, мировоззрения и формируется под влиянием воспитания, окружения, професси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5" name="Рисунок 10" descr="http://im3-tub.yandex.net/i?id=153736409&amp;tov=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16360" y="3824280"/>
            <a:ext cx="345600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Барьер некомпетентности …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некомпетентность партнера вызывает чувство досады, ощущение потерянного времени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Times New Roman"/>
              </a:rPr>
              <a:t>Барьеры восприятия и понимания: 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стетический барьер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разное социальное положение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отрицательных эмоций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состояние здоровья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сихологическая защита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установки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арьер двойни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Picture 4" descr="troe-iz-prostokvashino-pir-2"/>
          <p:cNvPicPr/>
          <p:nvPr/>
        </p:nvPicPr>
        <p:blipFill>
          <a:blip r:embed="rId1"/>
          <a:stretch/>
        </p:blipFill>
        <p:spPr>
          <a:xfrm>
            <a:off x="5651640" y="4005360"/>
            <a:ext cx="31669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eec94"/>
                </a:solidFill>
                <a:latin typeface="Times New Roman"/>
              </a:rPr>
              <a:t>Эстетический барьер … 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озникает в том случае, когда партнер неопрятно, неряшливо одет или обстановка в его кабинете, вид рабочего стола не располагают к беседе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http://im2-tub.yandex.net/i?id=441345&amp;tov=2"/>
          <p:cNvPicPr/>
          <p:nvPr/>
        </p:nvPicPr>
        <p:blipFill>
          <a:blip r:embed="rId1"/>
          <a:stretch/>
        </p:blipFill>
        <p:spPr>
          <a:xfrm>
            <a:off x="3995640" y="4292640"/>
            <a:ext cx="3313080" cy="21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9T15:44:03Z</dcterms:created>
  <dc:creator>Admin</dc:creator>
  <dc:description/>
  <dc:language>en-US</dc:language>
  <cp:lastModifiedBy>Owner</cp:lastModifiedBy>
  <dcterms:modified xsi:type="dcterms:W3CDTF">2012-08-19T00:48:33Z</dcterms:modified>
  <cp:revision>8</cp:revision>
  <dc:subject/>
  <dc:title>Барьеры общения</dc:title>
</cp:coreProperties>
</file>