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gif" ContentType="image/gif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3F9-7D7F-4F01-A006-333EBB85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1350-213A-4DD8-9595-24274867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366-39D4-4F19-9CE3-8901BF5E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6941-7686-417E-9A26-CF258BED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DDEF-4095-4094-8112-79CF4987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C8CC-9550-40D0-A4A6-1763838C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A61E-3A7C-4EA7-A19E-DC4F3BC1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8B48-128A-48D3-98F1-89C5800D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F056-4C3A-42E6-9FF5-9ADAE970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B566-8263-4FAF-AD26-461E770A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78B6-C3AA-4085-924C-5E7CD30A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471-76E9-4EB1-884D-F7F0827B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388D-93DC-46A0-A94F-C075C1EA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D6B4-0B2D-4A45-AAAE-E51ABEF1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7842-F92E-4E36-B029-85CA5811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A13C-3A42-4B83-B906-DA24E3CB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A4B7-4341-481A-B71C-C6655912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F33-2FCC-4450-B540-F79983C9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55A-3535-424F-953B-2ACAD871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7F3-38D1-4925-9572-0A969592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E6A-9088-49AA-88AB-A530D0A2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CCD4-450F-40D7-BE17-23866F21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A2D-EAC9-4A19-956F-224359A2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2D6-E5C3-49E9-9E5E-F49FC2AA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A832-D33E-4D02-B6C7-4F90FDCCEC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EBF9-E936-4F9F-BFA9-BCBFC817C6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&amp;ed=1&amp;text=&#1087;&#1088;&#1080;&#1084;&#1077;&#1088;&#1099;%20&#1073;&#1072;&#1088;&#1100;&#1077;&#1088;&#1086;&#1074;%20&#1074;%20&#1086;&#1073;&#1097;&#1077;&#1085;&#1080;&#1080;&amp;spsite=fake-005-870270.ru&amp;img_url=narodna.pravda.com.ua%2Fimages%2Fdoc%2F07389-picture1.jpg&amp;rpt=simag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Барьеры общения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аберите у меня все, чем я обладаю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о оставьте мне мою речь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 скоро я обрету все, что име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аниэл Уэбст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Разное социальное положение партнеров …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препятствовать общению, если один из них привык испытывать трепет перед начальств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отрицательных эмоций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общении с расстроенным человек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http://im7-tub.yandex.net/i?id=92133543&amp;tov=7"/>
          <p:cNvPicPr/>
          <p:nvPr/>
        </p:nvPicPr>
        <p:blipFill>
          <a:blip r:embed="rId1"/>
          <a:stretch/>
        </p:blipFill>
        <p:spPr>
          <a:xfrm>
            <a:off x="5148360" y="3699000"/>
            <a:ext cx="374472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ояние здоровья человек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дям не составляет большого труда по внешним признакам догадаться о том, что происходит с человеком, выбрать соответствующий тон, слова или сократить время общения, чтобы не утомлять собеседника, которому нездоровитс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сихологическая защит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звана желанием собеседника защититься от ва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Grafik 4" descr="heidelberg.jpg"/>
          <p:cNvPicPr/>
          <p:nvPr/>
        </p:nvPicPr>
        <p:blipFill>
          <a:blip r:embed="rId1"/>
          <a:stretch/>
        </p:blipFill>
        <p:spPr>
          <a:xfrm>
            <a:off x="4716360" y="3573360"/>
            <a:ext cx="395928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установки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, когда деловой партнер обладает негативной установкой по отношению к вам или к фирме, представителем которой вы являетес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двойник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лючается в том, что мы невольно судим о каждом человеке по себе, ждем от делового партнера такого поступка, какой совершили бы на его мест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ммуникативные барьеры: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мантический барьер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умение выражать свои мысл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охая техника реч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умение слушать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модальносте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характер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9"/>
          <p:cNvPicPr/>
          <p:nvPr/>
        </p:nvPicPr>
        <p:blipFill>
          <a:blip r:embed="rId1"/>
          <a:stretch/>
        </p:blipFill>
        <p:spPr>
          <a:xfrm>
            <a:off x="5508720" y="3933720"/>
            <a:ext cx="30956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емантический барьер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бое слово имеет обычно не одно, а несколько значений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мысловые» поля у разных людей разные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астую используются жаргонные слова, тайные языки, часто употребляемые в какой-либо группе образы, приме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еумение выражать свои мысли (логический барьер) ..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.. возникает, если человек, с нашей точки зрения, говорит или делает что-то в противоречии с правилами логики; тогда мы не только отказываемся его понимать, но и эмоционально воспринимаем его слова отрицательн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Рисунок 7" descr="http://im2-tub.yandex.net/i?id=153384587&amp;tov=2"/>
          <p:cNvPicPr/>
          <p:nvPr/>
        </p:nvPicPr>
        <p:blipFill>
          <a:blip r:embed="rId1"/>
          <a:stretch/>
        </p:blipFill>
        <p:spPr>
          <a:xfrm>
            <a:off x="6156360" y="4292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лохая техника речи (фонетический барьер)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говорят на иностранном языке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ют большое число иностранных слов или специальную терминологию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говорят быстро, невнятно и с акцент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апример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невыразительная речь, речь-скороговорка, звуки-паразиты, дефекты реч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"Барьер" общения – это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сихологическое препятствие на пути адекватной передачи информации между партнерами по общению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356000" y="4076640"/>
            <a:ext cx="42498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еумение слушать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является в том, что партнер перебивает, начинает говорить о своем или уходит в собственные мысли и вовсе не реагирует на ваши сло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9" descr="http://proletarism.org/images/1_33.gif"/>
          <p:cNvPicPr/>
          <p:nvPr/>
        </p:nvPicPr>
        <p:blipFill>
          <a:blip r:embed="rId1"/>
          <a:stretch/>
        </p:blipFill>
        <p:spPr>
          <a:xfrm>
            <a:off x="6361200" y="3714840"/>
            <a:ext cx="2135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модальностей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тогда, когда человек не задумывается о приоритетном канале восприятия информа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TheSimpsons"/>
          <p:cNvPicPr/>
          <p:nvPr/>
        </p:nvPicPr>
        <p:blipFill>
          <a:blip r:embed="rId1"/>
          <a:stretch/>
        </p:blipFill>
        <p:spPr>
          <a:xfrm>
            <a:off x="5364000" y="3860640"/>
            <a:ext cx="35290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характер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ди с ярко выраженными особенностями темперамента могут быть неудобными собеседника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евежливость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тот барьер, который мешает и правильно воспринимать партнера, и понимать, что он говорит, и взаимодействовать с ни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 процессе делового общения различают следующие «барьеры»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авторитет»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избегание»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непонимание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i-main-pic" descr="Картинка 198 из 758"/>
          <p:cNvPicPr/>
          <p:nvPr/>
        </p:nvPicPr>
        <p:blipFill>
          <a:blip r:embed="rId1"/>
          <a:stretch/>
        </p:blipFill>
        <p:spPr>
          <a:xfrm>
            <a:off x="5292720" y="3645000"/>
            <a:ext cx="331164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Барьер «авторитет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делив всех людей на авторитетных и неавторитетных, человек доверяет только первым и отказывает в доверии другим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i-main-pic" descr="Картинка 129 из 64000"/>
          <p:cNvPicPr/>
          <p:nvPr/>
        </p:nvPicPr>
        <p:blipFill>
          <a:blip r:embed="rId1"/>
          <a:stretch/>
        </p:blipFill>
        <p:spPr>
          <a:xfrm>
            <a:off x="5940360" y="3716280"/>
            <a:ext cx="2616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Отнесение человека к авторитетным зависит от следующих факторов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ого положения (статус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крен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лекательного внешнего ви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брожелательного отношен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етентност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Барьер «избегание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ловек избегает источников воздействия, уклоняется от контакта с собеседник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тановлено, что чаще всего барьер обусловлен той или иной степенью невнима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ривлечь внимание можно при использовании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нейтральной фразы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завлечен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зрительного контакт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«непонимани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астую источник информации заслуживает доверия, авторитетен, однако информация «не доходит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i-main-pic" descr="Картинка 385 из 64000"/>
          <p:cNvPicPr/>
          <p:nvPr/>
        </p:nvPicPr>
        <p:blipFill>
          <a:blip r:embed="rId1"/>
          <a:stretch/>
        </p:blipFill>
        <p:spPr>
          <a:xfrm>
            <a:off x="2556000" y="3429000"/>
            <a:ext cx="35528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ши типичные ошибк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правильные ожидания в отношении партне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ам кажется, что партнер должен догадываться о том, что мы чувствуе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 улавливаем подтекст разгово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если поведение человека нам неприятно, нам кажется, что он плохо к нам относится или даже делает это нам назл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ы стараемся оправдать ожидания собеседни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ы взаимодействия: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тивационны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ически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стилей общени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некомпетент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 какому типу собеседников относитесь вы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А (видеть): 1, 5, 8, 10, 12, 14, 19, 21, 23, 27, 31, 32, 39, 40, 42, 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В (ощущать): 3, 4, 9, 11, 16, 18, 22, 25, 28, 29, 30, 35, 38, 41, 44, 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С (слышать): 2, 6, 7, 13, 15, 17, 20, 24, 26, 33, 34, 36, 37, 43, 46, 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отивационный барьер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, если у партнеров разные мотивы вступления в контак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имер: один заинтересован в развитии общего дела, а другого интересует только немедленная прибыл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тический барьер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тогда, когда взаимодействию с партнером мешает его нравственная позиция, несовместимая с ваш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5" descr="1"/>
          <p:cNvPicPr/>
          <p:nvPr/>
        </p:nvPicPr>
        <p:blipFill>
          <a:blip r:embed="rId1"/>
          <a:stretch/>
        </p:blipFill>
        <p:spPr>
          <a:xfrm>
            <a:off x="395280" y="3933720"/>
            <a:ext cx="3887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стилей общения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висит от темперамента, характера, мировоззрения и формируется под влиянием воспитания, окружения, професс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Рисунок 10" descr="http://im3-tub.yandex.net/i?id=153736409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824280"/>
            <a:ext cx="34560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некомпетентности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том случае, когда некомпетентность партнера вызывает чувство досады, ощущение потерянного времен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ы восприятия и понимания: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стетически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ное социальное положени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отрицательных эмоци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состояние здоровья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сихологическая защит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установ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двойн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troe-iz-prostokvashino-pir-2"/>
          <p:cNvPicPr/>
          <p:nvPr/>
        </p:nvPicPr>
        <p:blipFill>
          <a:blip r:embed="rId1"/>
          <a:stretch/>
        </p:blipFill>
        <p:spPr>
          <a:xfrm>
            <a:off x="5651640" y="4005360"/>
            <a:ext cx="3166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стетический барьер …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том случае, когда партнер неопрятно, неряшливо одет или обстановка в его кабинете, вид рабочего стола не располагают к бесед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http://im2-tub.yandex.net/i?id=441345&amp;tov=2"/>
          <p:cNvPicPr/>
          <p:nvPr/>
        </p:nvPicPr>
        <p:blipFill>
          <a:blip r:embed="rId1"/>
          <a:stretch/>
        </p:blipFill>
        <p:spPr>
          <a:xfrm>
            <a:off x="3995640" y="4292640"/>
            <a:ext cx="331308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5:44:03Z</dcterms:created>
  <dc:creator>Admin</dc:creator>
  <dc:description/>
  <dc:language>en-US</dc:language>
  <cp:lastModifiedBy>Owner</cp:lastModifiedBy>
  <dcterms:modified xsi:type="dcterms:W3CDTF">2012-08-19T00:48:33Z</dcterms:modified>
  <cp:revision>8</cp:revision>
  <dc:subject/>
  <dc:title>Барьеры общения</dc:title>
</cp:coreProperties>
</file>