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27.png" ContentType="image/png"/>
  <Override PartName="/ppt/media/image4.gif" ContentType="image/gif"/>
  <Override PartName="/ppt/media/image30.wmf" ContentType="image/x-wmf"/>
  <Override PartName="/ppt/media/image34.gif" ContentType="image/gif"/>
  <Override PartName="/ppt/media/image26.png" ContentType="image/png"/>
  <Override PartName="/ppt/media/image3.gif" ContentType="image/gif"/>
  <Override PartName="/ppt/media/image33.gif" ContentType="image/gif"/>
  <Override PartName="/ppt/media/image25.wmf" ContentType="image/x-wmf"/>
  <Override PartName="/ppt/media/image24.wmf" ContentType="image/x-wmf"/>
  <Override PartName="/ppt/media/image23.png" ContentType="image/png"/>
  <Override PartName="/ppt/media/image19.wmf" ContentType="image/x-wmf"/>
  <Override PartName="/ppt/media/image21.wmf" ContentType="image/x-wmf"/>
  <Override PartName="/ppt/media/image18.wmf" ContentType="image/x-wmf"/>
  <Override PartName="/ppt/media/image20.wmf" ContentType="image/x-wmf"/>
  <Override PartName="/ppt/media/image12.gif" ContentType="image/gif"/>
  <Override PartName="/ppt/media/image16.png" ContentType="image/png"/>
  <Override PartName="/ppt/media/image13.gif" ContentType="image/gif"/>
  <Override PartName="/ppt/media/image7.gif" ContentType="image/gif"/>
  <Override PartName="/ppt/media/image37.gif" ContentType="image/gif"/>
  <Override PartName="/ppt/media/image8.gif" ContentType="image/gif"/>
  <Override PartName="/ppt/media/image38.gif" ContentType="image/gif"/>
  <Override PartName="/ppt/media/image9.gif" ContentType="image/gif"/>
  <Override PartName="/ppt/media/image39.png" ContentType="image/png"/>
  <Override PartName="/ppt/media/image40.jpeg" ContentType="image/jpeg"/>
  <Override PartName="/ppt/media/image41.jpeg" ContentType="image/jpeg"/>
  <Override PartName="/ppt/media/image11.gif" ContentType="image/gif"/>
  <Override PartName="/ppt/media/image36.gif" ContentType="image/gif"/>
  <Override PartName="/ppt/media/image6.gif" ContentType="image/gif"/>
  <Override PartName="/ppt/media/image32.wmf" ContentType="image/x-wmf"/>
  <Override PartName="/ppt/media/image10.gif" ContentType="image/gif"/>
  <Override PartName="/ppt/media/image35.gif" ContentType="image/gif"/>
  <Override PartName="/ppt/media/image31.wmf" ContentType="image/x-wmf"/>
  <Override PartName="/ppt/media/image5.gif" ContentType="image/gif"/>
  <Override PartName="/ppt/media/image1.jpeg" ContentType="image/jpeg"/>
  <Override PartName="/ppt/media/image2.gif" ContentType="image/gif"/>
  <Override PartName="/ppt/media/image14.gif" ContentType="image/gif"/>
  <Override PartName="/ppt/media/image15.gif" ContentType="image/gif"/>
  <Override PartName="/ppt/media/image17.gif" ContentType="image/gi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9979025" cy="6832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979200" cy="683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5653080" y="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98640" y="3246480"/>
            <a:ext cx="7981920" cy="30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0" y="649116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5653080" y="649116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2F06-DD97-494A-8F49-6A4A64A62B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5653080" y="6491160"/>
            <a:ext cx="4324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5649-8070-4AC3-A16C-682455EAC734}" type="slidenum">
              <a:rPr b="0" lang="ru-RU" sz="1200" spc="-1" strike="noStrike">
                <a:solidFill>
                  <a:srgbClr val="000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98640" y="3246480"/>
            <a:ext cx="7981920" cy="30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5653080" y="6491160"/>
            <a:ext cx="4324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4518-C4A0-40EF-B456-4D7405A95059}" type="slidenum">
              <a:rPr b="0" lang="ru-RU" sz="1200" spc="-1" strike="noStrike">
                <a:solidFill>
                  <a:srgbClr val="000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98640" y="3246480"/>
            <a:ext cx="7981920" cy="30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BD26-16A6-4C98-8507-79776F15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10AA-D8EF-48CE-990D-D84A994C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3A1F-3746-4CE6-AAF7-7F3E8FC9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EC55-FEDE-4B77-AF97-14AEE5A2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F859-23FD-470D-8038-09E9C8BE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6D28-5DBD-453F-9B13-AFB516F5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B9C3-E1E3-4377-8898-ED34988E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8CB9-1EC2-45D4-A4E5-11ECFA72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156B-A735-44E8-96D9-E079FBB9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C849-FEAA-4DB7-93BA-0C5FDE61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D57D-6335-4B13-A288-96A2BC5A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8A6D-4D2F-474D-9303-9840A62E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A579-1CC0-42E8-93FD-15933A15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709D-147C-47B9-89F2-5EE7490C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8E3C-75CC-4879-8E9B-6E00FE4C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A928-5E1D-4978-A4BD-AAD6407F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1559-5481-4A57-BD23-4EAC988F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03BF-12D5-4F14-B9F4-C16598F7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BB0C-9E6E-46DD-A130-9DE74959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DBC1-24F6-4A4E-84AF-F841AC9B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BF5E-830C-480F-AAC5-A2D6B6F5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F240-F3CA-45B0-98C9-E47688F5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251C-65FA-4BCB-9559-C4E7DBF3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98D4-694D-4D4E-937B-1FB3004C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80BF-43B4-4503-BF55-69C02A7449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99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prstGeom prst="pie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7a7c9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7a7c93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prstGeom prst="pie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prstGeom prst="pie">
                  <a:avLst/>
                </a:prstGeom>
                <a:solidFill>
                  <a:srgbClr val="9933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prstGeom prst="pie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EE11-0362-45B9-9F29-4115C0123684}" type="slidenum">
              <a:rPr b="0" lang="ru-RU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hyperlink" Target="http://900igr.net/" TargetMode="External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37160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0"/>
                </a:solidFill>
                <a:latin typeface="Arial"/>
              </a:rPr>
              <a:t>«</a:t>
            </a:r>
            <a:r>
              <a:rPr b="0" lang="ru-RU" sz="4000" spc="-1" strike="noStrike">
                <a:solidFill>
                  <a:srgbClr val="000060"/>
                </a:solidFill>
                <a:latin typeface="Comic Sans MS"/>
              </a:rPr>
              <a:t>Предупреждение нарушений в поведении ребенка</a:t>
            </a:r>
            <a:r>
              <a:rPr b="0" lang="ru-RU" sz="4000" spc="-1" strike="noStrike">
                <a:solidFill>
                  <a:srgbClr val="00006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pic>
        <p:nvPicPr>
          <p:cNvPr id="117" name="Picture 4" descr="deva213"/>
          <p:cNvPicPr/>
          <p:nvPr/>
        </p:nvPicPr>
        <p:blipFill>
          <a:blip r:embed="rId1"/>
          <a:stretch/>
        </p:blipFill>
        <p:spPr>
          <a:xfrm>
            <a:off x="541008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deva214"/>
          <p:cNvPicPr/>
          <p:nvPr/>
        </p:nvPicPr>
        <p:blipFill>
          <a:blip r:embed="rId2"/>
          <a:stretch/>
        </p:blipFill>
        <p:spPr>
          <a:xfrm>
            <a:off x="137160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deva216"/>
          <p:cNvPicPr/>
          <p:nvPr/>
        </p:nvPicPr>
        <p:blipFill>
          <a:blip r:embed="rId3"/>
          <a:stretch/>
        </p:blipFill>
        <p:spPr>
          <a:xfrm>
            <a:off x="342900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deva215"/>
          <p:cNvPicPr/>
          <p:nvPr/>
        </p:nvPicPr>
        <p:blipFill>
          <a:blip r:embed="rId4"/>
          <a:stretch/>
        </p:blipFill>
        <p:spPr>
          <a:xfrm>
            <a:off x="7391520" y="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121" name="Скругленный прямоугольник 6">
            <a:hlinkClick r:id="rId5"/>
          </p:cNvPr>
          <p:cNvSpPr/>
          <p:nvPr/>
        </p:nvSpPr>
        <p:spPr>
          <a:xfrm flipV="1">
            <a:off x="7162920" y="685800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80"/>
                </a:solidFill>
                <a:uFillTx/>
                <a:latin typeface="Comic Sans MS"/>
              </a:rPr>
              <a:t>Месть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ирода мстительного поведе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Отражение роста насилия в обществе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Распространение через средства массовой информации стиля «силового» решения конфликта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Реакция взрослого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Обида, боль, опустошение в дополнение к гневу, негодованию и страху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Немедленно ответить силой как равному (подавить),уйти из ситуации (убежать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73" name="Picture 4" descr="pingv04"/>
          <p:cNvPicPr/>
          <p:nvPr/>
        </p:nvPicPr>
        <p:blipFill>
          <a:blip r:embed="rId1"/>
          <a:stretch/>
        </p:blipFill>
        <p:spPr>
          <a:xfrm>
            <a:off x="6705720" y="228600"/>
            <a:ext cx="20764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6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6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6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7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7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5820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mic Sans MS"/>
              </a:rPr>
              <a:t>Есть ли хорошее в плохом?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1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.«</a:t>
            </a: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Привлечение внимания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»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ети  нуждаются в общении с родителями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2.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«</a:t>
            </a: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Власть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»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ети  демонстрируют лидерские способности: умение независимо мыслить, способность сопротивляться авторитетам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3.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«</a:t>
            </a: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Месть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»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ети демонстрируют высокую жизнеспособность, умение защитится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4.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«</a:t>
            </a: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Избегание неудач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»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ети хотят и могут добиться успеха.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76" name="Picture 10" descr="line92"/>
          <p:cNvPicPr/>
          <p:nvPr/>
        </p:nvPicPr>
        <p:blipFill>
          <a:blip r:embed="rId1"/>
          <a:stretch/>
        </p:blipFill>
        <p:spPr>
          <a:xfrm>
            <a:off x="4114800" y="762120"/>
            <a:ext cx="4838760" cy="333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sw54"/>
          <p:cNvPicPr/>
          <p:nvPr/>
        </p:nvPicPr>
        <p:blipFill>
          <a:blip r:embed="rId2"/>
          <a:stretch/>
        </p:blipFill>
        <p:spPr>
          <a:xfrm>
            <a:off x="7095960" y="5068800"/>
            <a:ext cx="204804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0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1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3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0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7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78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0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8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8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0" dur="2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Шаг первый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: 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Установить и поддерживать отношения равенства и взаимного уважения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80" name="Picture 4" descr="MCj04360490000[1]"/>
          <p:cNvPicPr/>
          <p:nvPr/>
        </p:nvPicPr>
        <p:blipFill>
          <a:blip r:embed="rId1"/>
          <a:stretch/>
        </p:blipFill>
        <p:spPr>
          <a:xfrm>
            <a:off x="1066680" y="3505320"/>
            <a:ext cx="2210040" cy="2179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MCj04360450000[1]"/>
          <p:cNvPicPr/>
          <p:nvPr/>
        </p:nvPicPr>
        <p:blipFill>
          <a:blip r:embed="rId2"/>
          <a:stretch/>
        </p:blipFill>
        <p:spPr>
          <a:xfrm>
            <a:off x="6781680" y="3429000"/>
            <a:ext cx="215748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MCj04244660000[1]"/>
          <p:cNvPicPr/>
          <p:nvPr/>
        </p:nvPicPr>
        <p:blipFill>
          <a:blip r:embed="rId3"/>
          <a:stretch/>
        </p:blipFill>
        <p:spPr>
          <a:xfrm>
            <a:off x="4038480" y="4114800"/>
            <a:ext cx="197496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0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Шаг второй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онять причину поведения ребенка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85" name="Picture 5" descr="MCj04357430000[1]"/>
          <p:cNvPicPr/>
          <p:nvPr/>
        </p:nvPicPr>
        <p:blipFill>
          <a:blip r:embed="rId1"/>
          <a:stretch/>
        </p:blipFill>
        <p:spPr>
          <a:xfrm>
            <a:off x="7467480" y="3276720"/>
            <a:ext cx="1274760" cy="2971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boys11"/>
          <p:cNvPicPr/>
          <p:nvPr/>
        </p:nvPicPr>
        <p:blipFill>
          <a:blip r:embed="rId2"/>
          <a:stretch/>
        </p:blipFill>
        <p:spPr>
          <a:xfrm>
            <a:off x="1523880" y="3505320"/>
            <a:ext cx="1467000" cy="2361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MCj04338180000[1]"/>
          <p:cNvPicPr/>
          <p:nvPr/>
        </p:nvPicPr>
        <p:blipFill>
          <a:blip r:embed="rId3"/>
          <a:stretch/>
        </p:blipFill>
        <p:spPr>
          <a:xfrm>
            <a:off x="3962520" y="3886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0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28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Шаг третий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омочь ребенку определить и осознать причину нежелательного поведения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ЕОСУЖДАЮЩИМ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образом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90" name="Picture 4" descr="MCj03973620000[1]"/>
          <p:cNvPicPr/>
          <p:nvPr/>
        </p:nvPicPr>
        <p:blipFill>
          <a:blip r:embed="rId1"/>
          <a:stretch/>
        </p:blipFill>
        <p:spPr>
          <a:xfrm>
            <a:off x="6781680" y="4572000"/>
            <a:ext cx="2362320" cy="1700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MCj04303700000[1]"/>
          <p:cNvPicPr/>
          <p:nvPr/>
        </p:nvPicPr>
        <p:blipFill>
          <a:blip r:embed="rId2"/>
          <a:stretch/>
        </p:blipFill>
        <p:spPr>
          <a:xfrm>
            <a:off x="914400" y="4267080"/>
            <a:ext cx="2057400" cy="1978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MCj04338160000[1]"/>
          <p:cNvPicPr/>
          <p:nvPr/>
        </p:nvPicPr>
        <p:blipFill>
          <a:blip r:embed="rId3"/>
          <a:stretch/>
        </p:blipFill>
        <p:spPr>
          <a:xfrm>
            <a:off x="3962520" y="4419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0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Шаг четвертый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редупреждать возникновение проблемных ситуаций, установив доверительные отношения с ребенком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95" name="Picture 4" descr="MCj04338230000[1]"/>
          <p:cNvPicPr/>
          <p:nvPr/>
        </p:nvPicPr>
        <p:blipFill>
          <a:blip r:embed="rId1"/>
          <a:stretch/>
        </p:blipFill>
        <p:spPr>
          <a:xfrm>
            <a:off x="4114800" y="4191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MCj04344530000[1]"/>
          <p:cNvPicPr/>
          <p:nvPr/>
        </p:nvPicPr>
        <p:blipFill>
          <a:blip r:embed="rId2"/>
          <a:stretch/>
        </p:blipFill>
        <p:spPr>
          <a:xfrm>
            <a:off x="914400" y="4191120"/>
            <a:ext cx="2590920" cy="1666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MCj04344550000[1]"/>
          <p:cNvPicPr/>
          <p:nvPr/>
        </p:nvPicPr>
        <p:blipFill>
          <a:blip r:embed="rId3"/>
          <a:stretch/>
        </p:blipFill>
        <p:spPr>
          <a:xfrm>
            <a:off x="6553080" y="4114800"/>
            <a:ext cx="21337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nodeType="clickEffect" fill="hold">
                      <p:stCondLst>
                        <p:cond delay="0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80"/>
                </a:solidFill>
                <a:uFillTx/>
                <a:latin typeface="Comic Sans MS"/>
              </a:rPr>
              <a:t>Шаг пятый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Обеспечить ребенку возможность: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омогать (понять смысл чувства полезности);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Сотрудничать (объяснять, насколько больше 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он сможет сделать, работая вместе с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одителями и братьями, сестрами);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Делать то, что ему по силам (чтобы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сделать ситуацию более приятной);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аучить правильно решать проблемы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(анализировать поступки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00" name="Picture 4" descr="MCj04244700000[1]"/>
          <p:cNvPicPr/>
          <p:nvPr/>
        </p:nvPicPr>
        <p:blipFill>
          <a:blip r:embed="rId1"/>
          <a:stretch/>
        </p:blipFill>
        <p:spPr>
          <a:xfrm>
            <a:off x="762120" y="2743200"/>
            <a:ext cx="533160" cy="500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MCj04244700000[1]"/>
          <p:cNvPicPr/>
          <p:nvPr/>
        </p:nvPicPr>
        <p:blipFill>
          <a:blip r:embed="rId2"/>
          <a:stretch/>
        </p:blipFill>
        <p:spPr>
          <a:xfrm>
            <a:off x="1219320" y="3352680"/>
            <a:ext cx="533160" cy="500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MCj04244700000[1]"/>
          <p:cNvPicPr/>
          <p:nvPr/>
        </p:nvPicPr>
        <p:blipFill>
          <a:blip r:embed="rId3"/>
          <a:stretch/>
        </p:blipFill>
        <p:spPr>
          <a:xfrm>
            <a:off x="914400" y="4572000"/>
            <a:ext cx="533520" cy="500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MCj04244700000[1]"/>
          <p:cNvPicPr/>
          <p:nvPr/>
        </p:nvPicPr>
        <p:blipFill>
          <a:blip r:embed="rId4"/>
          <a:stretch/>
        </p:blipFill>
        <p:spPr>
          <a:xfrm>
            <a:off x="2362320" y="5486400"/>
            <a:ext cx="533160" cy="5000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MCj04283210000[1]"/>
          <p:cNvPicPr/>
          <p:nvPr/>
        </p:nvPicPr>
        <p:blipFill>
          <a:blip r:embed="rId5"/>
          <a:stretch/>
        </p:blipFill>
        <p:spPr>
          <a:xfrm>
            <a:off x="7315200" y="914400"/>
            <a:ext cx="1600200" cy="1300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MCj03975980000[1]"/>
          <p:cNvPicPr/>
          <p:nvPr/>
        </p:nvPicPr>
        <p:blipFill>
          <a:blip r:embed="rId6"/>
          <a:stretch/>
        </p:blipFill>
        <p:spPr>
          <a:xfrm>
            <a:off x="762120" y="762120"/>
            <a:ext cx="144756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0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2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2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2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80"/>
                </a:solidFill>
                <a:latin typeface="Comic Sans MS"/>
              </a:rPr>
              <a:t>Что же делать, для предупреждения нарушений в поведении ребенка?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pic>
        <p:nvPicPr>
          <p:cNvPr id="207" name="Picture 8" descr="elf121"/>
          <p:cNvPicPr/>
          <p:nvPr/>
        </p:nvPicPr>
        <p:blipFill>
          <a:blip r:embed="rId1"/>
          <a:stretch/>
        </p:blipFill>
        <p:spPr>
          <a:xfrm>
            <a:off x="533520" y="228600"/>
            <a:ext cx="2133360" cy="1962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elf123"/>
          <p:cNvPicPr/>
          <p:nvPr/>
        </p:nvPicPr>
        <p:blipFill>
          <a:blip r:embed="rId2"/>
          <a:stretch/>
        </p:blipFill>
        <p:spPr>
          <a:xfrm>
            <a:off x="6912000" y="4038480"/>
            <a:ext cx="1536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0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равильно проявлять внимание к ребенку!</a:t>
            </a:r>
            <a:br>
              <a:rPr sz="3200"/>
            </a:b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«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Все дети жаждут внимания!»</a:t>
            </a:r>
            <a:r>
              <a:rPr b="0" lang="ru-RU" sz="4000" spc="-1" strike="noStrike">
                <a:solidFill>
                  <a:srgbClr val="3366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Внимание за хорошие дела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объятия, улыбки, интерес и похвала являются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вознаграждением и, следовательно, сильным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обудительным мотивом вести себя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"хорошо"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Внимание, которое следует за нежелательным поведением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еприятные слова или нахмуренные брови и резко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брошенное: "Прекрати!" с точки зрения ребенка – это тоже </a:t>
            </a:r>
            <a:r>
              <a:rPr b="1" lang="ru-RU" sz="2400" spc="-1" strike="noStrike">
                <a:solidFill>
                  <a:srgbClr val="000080"/>
                </a:solidFill>
                <a:latin typeface="Comic Sans MS"/>
              </a:rPr>
              <a:t>проявление внима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11" name="Picture 4" descr="homa84"/>
          <p:cNvPicPr/>
          <p:nvPr/>
        </p:nvPicPr>
        <p:blipFill>
          <a:blip r:embed="rId1"/>
          <a:stretch/>
        </p:blipFill>
        <p:spPr>
          <a:xfrm>
            <a:off x="914400" y="750960"/>
            <a:ext cx="182880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0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2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2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2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20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равильно проявлять внимание к ребенку!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2120" y="761760"/>
            <a:ext cx="3962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80"/>
                </a:solidFill>
                <a:uFillTx/>
                <a:latin typeface="Comic Sans MS"/>
              </a:rPr>
              <a:t>Повышенное внимание (сверозабоченность)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Ты должен чистить зубы или у тебя будут дырки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Я не хочу, чтобы ты смотрел телевизор весь вечер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Перестань драться сию же минуту! 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Ты должен ходить в школу или ты не сможешь получить хорошей работы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Ешь, что я приготовила, тебе эта еда полезна"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52880" y="761760"/>
            <a:ext cx="419112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80"/>
                </a:solidFill>
                <a:uFillTx/>
                <a:latin typeface="Comic Sans MS"/>
              </a:rPr>
              <a:t>Переделано к модели 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80"/>
                </a:solidFill>
                <a:uFillTx/>
                <a:latin typeface="Comic Sans MS"/>
              </a:rPr>
              <a:t>уважения: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Я беспокоюсь, что придеться идти к зубному врачу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После 9 часов вечера комната мне нужна самому"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Я не хочу рисковать твоим здоровьем, позволяя тебе драться»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Когда ты так много пропускаешь в школе, учителя звонят мне. Я не знаю, что им говорить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Я не хочу всем готовить разную еду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nodeType="clickEffect" fill="hold">
                      <p:stCondLst>
                        <p:cond delay="0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2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2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2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2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20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20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2000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2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2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2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2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20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20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20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20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0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Изменить нежелательное поведение ребёнка - задача очень непростая!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амного проще вовремя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               предупредить нарушения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Для этого необходимо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роанализировать и понять,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что для Вас является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   нарушением поведения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24" name="Picture 6" descr="lines16"/>
          <p:cNvPicPr/>
          <p:nvPr/>
        </p:nvPicPr>
        <p:blipFill>
          <a:blip r:embed="rId1"/>
          <a:stretch/>
        </p:blipFill>
        <p:spPr>
          <a:xfrm>
            <a:off x="4648320" y="1447920"/>
            <a:ext cx="3809880" cy="21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lines16"/>
          <p:cNvPicPr/>
          <p:nvPr/>
        </p:nvPicPr>
        <p:blipFill>
          <a:blip r:embed="rId2"/>
          <a:stretch/>
        </p:blipFill>
        <p:spPr>
          <a:xfrm>
            <a:off x="762120" y="1447920"/>
            <a:ext cx="3809880" cy="217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people072"/>
          <p:cNvPicPr/>
          <p:nvPr/>
        </p:nvPicPr>
        <p:blipFill>
          <a:blip r:embed="rId3"/>
          <a:stretch/>
        </p:blipFill>
        <p:spPr>
          <a:xfrm>
            <a:off x="1066680" y="4838760"/>
            <a:ext cx="21337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Следить за своими словами и действиями!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«Чем меньше мы знаем, что делать, тем больше мы знаем, что должны делать другие!»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икто не хочет, чтобы им </a:t>
            </a: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понукали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еобходимо действовать и говорить другим, что </a:t>
            </a: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МЫ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собираемся делать, а не что </a:t>
            </a: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должны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делать </a:t>
            </a: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ОНИ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17" name="Picture 5" descr="lines8"/>
          <p:cNvPicPr/>
          <p:nvPr/>
        </p:nvPicPr>
        <p:blipFill>
          <a:blip r:embed="rId1"/>
          <a:stretch/>
        </p:blipFill>
        <p:spPr>
          <a:xfrm>
            <a:off x="1600200" y="2819520"/>
            <a:ext cx="69343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nodeType="clickEffect" fill="hold">
                      <p:stCondLst>
                        <p:cond delay="0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1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4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4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Comic Sans MS"/>
              </a:rPr>
              <a:t>Несколько лишних, но отнюдь не ненужных слов!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31244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         </a:t>
            </a:r>
            <a:r>
              <a:rPr b="1" lang="ru-RU" sz="2400" spc="-1" strike="noStrike" u="sng">
                <a:solidFill>
                  <a:srgbClr val="000080"/>
                </a:solidFill>
                <a:uFillTx/>
                <a:latin typeface="Arial"/>
              </a:rPr>
              <a:t>Указа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Перестань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Поторопись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("Одевайся!"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Чисти зубы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Покорми собаку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Убирайся отсюда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733920" y="1142640"/>
            <a:ext cx="53337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Arial"/>
              </a:rPr>
              <a:t>Предложе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Не мог бы ты играть не так шумно или пойти играть в </a:t>
            </a: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своей комнате?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Хотел бы ты одеваться здесь или в машине (</a:t>
            </a: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на площадке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)?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Что ты предпочитаешь: чистить зубы или не есть сладкого?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Хочешь покормить собаку или вынести мусор?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Не хочешь ли ты покинуть комнату или ты предпочитаешь, чтобы я тебя вытащил?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nodeType="clickEffect" fill="hold">
                      <p:stCondLst>
                        <p:cond delay="0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8" dur="1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2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2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10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2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2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2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20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20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Comic Sans MS"/>
              </a:rPr>
              <a:t>«НЕТ», не «НЕ-Е-ЕТ!!!»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1760" y="609480"/>
            <a:ext cx="830556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«Говорить «нет» и отстаивать свое мнение необходимо!»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«НЕТ» не должно быть наказанием, оно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олжно быть осознаваемым для ребенка!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очему «НЕТ», объясните!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Чем старше ребенок, тем труднее говорить «НЕТ»,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а уж объяснить почему, вообще кошмар! (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Ты же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уже взрослый, сам не понимаешь, почему?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одходите к ответам на вопросы с детской стороны!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omic Sans MS"/>
              </a:rPr>
              <a:t>Они,  может быть, и правда не понимают</a:t>
            </a:r>
            <a:r>
              <a:rPr b="1" lang="ru-RU" sz="3200" spc="-1" strike="noStrike">
                <a:solidFill>
                  <a:srgbClr val="000080"/>
                </a:solidFill>
                <a:latin typeface="Comic Sans MS"/>
              </a:rPr>
              <a:t>!!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23" name="Picture 5" descr="homa18"/>
          <p:cNvPicPr/>
          <p:nvPr/>
        </p:nvPicPr>
        <p:blipFill>
          <a:blip r:embed="rId1"/>
          <a:stretch/>
        </p:blipFill>
        <p:spPr>
          <a:xfrm>
            <a:off x="380880" y="762120"/>
            <a:ext cx="1524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nodeType="clickEffect" fill="hold">
                      <p:stCondLst>
                        <p:cond delay="0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2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8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8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3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3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6" dur="3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3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3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3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2" dur="10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Comic Sans MS"/>
              </a:rPr>
              <a:t>Попробуйте заменить слово «НЕТ»</a:t>
            </a:r>
            <a:br>
              <a:rPr sz="3600"/>
            </a:b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е сейчас, потому, что…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Я подумаю, и тогда…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Как ты думаешь, разумно ли это…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26" name="Picture 4" descr="ribka22"/>
          <p:cNvPicPr/>
          <p:nvPr/>
        </p:nvPicPr>
        <p:blipFill>
          <a:blip r:embed="rId1"/>
          <a:stretch/>
        </p:blipFill>
        <p:spPr>
          <a:xfrm>
            <a:off x="8001000" y="1905120"/>
            <a:ext cx="857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nodeType="clickEffect" fill="hold">
                      <p:stCondLst>
                        <p:cond delay="0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1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Решать только одну проблему за раз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«Не старайтесь поймать ребенка на проступках и складывать все в один тазик!!!»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Может быть, проблема вытекает одна из другой, а может, они не связаны и ребенку от непонимания только хуже!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опробуйте сосредоточиться на чем-то одном!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29" name="Picture 7" descr="мальчик с вопосом"/>
          <p:cNvPicPr/>
          <p:nvPr/>
        </p:nvPicPr>
        <p:blipFill>
          <a:blip r:embed="rId1"/>
          <a:stretch/>
        </p:blipFill>
        <p:spPr>
          <a:xfrm>
            <a:off x="3733920" y="1828800"/>
            <a:ext cx="22096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nodeType="clickEffect" fill="hold">
                      <p:stCondLst>
                        <p:cond delay="0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1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1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6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3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3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3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3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7" dur="30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2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2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2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2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20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омогайте ему анализировать ситуацию, чтобы не совершать подобные проступки!</a:t>
            </a:r>
            <a:br>
              <a:rPr sz="2800"/>
            </a:b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«2» по поведению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: </a:t>
            </a:r>
            <a:br>
              <a:rPr sz="2400"/>
            </a:br>
            <a:endParaRPr b="0" lang="en-US" sz="2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2640" y="1506240"/>
            <a:ext cx="3505320" cy="514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Как надо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очему?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в чем причина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как ты поступил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как надо было поступить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как поступил взрослый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а как он, на твой взгляд, должен был поступить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00600" y="137160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Как делаем мы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я так и знала!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маешься дурью, уроки не учишь!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вещи не убираешь!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только хулиганить можешь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облема не выделена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ебенок растерян!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За что ему оправдываться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33" name="Picture 6" descr="tani07"/>
          <p:cNvPicPr/>
          <p:nvPr/>
        </p:nvPicPr>
        <p:blipFill>
          <a:blip r:embed="rId1"/>
          <a:stretch/>
        </p:blipFill>
        <p:spPr>
          <a:xfrm>
            <a:off x="304920" y="1143000"/>
            <a:ext cx="1218960" cy="1828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deva71"/>
          <p:cNvPicPr/>
          <p:nvPr/>
        </p:nvPicPr>
        <p:blipFill>
          <a:blip r:embed="rId2"/>
          <a:stretch/>
        </p:blipFill>
        <p:spPr>
          <a:xfrm>
            <a:off x="8077320" y="3200400"/>
            <a:ext cx="1066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nodeType="clickEffect" fill="hold">
                      <p:stCondLst>
                        <p:cond delay="0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2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2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7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2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2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2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2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2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4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7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0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3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6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9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2" dur="500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drakon007"/>
          <p:cNvPicPr/>
          <p:nvPr/>
        </p:nvPicPr>
        <p:blipFill>
          <a:blip r:embed="rId1"/>
          <a:stretch/>
        </p:blipFill>
        <p:spPr>
          <a:xfrm>
            <a:off x="914400" y="4724280"/>
            <a:ext cx="129060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3d28"/>
          <p:cNvPicPr/>
          <p:nvPr/>
        </p:nvPicPr>
        <p:blipFill>
          <a:blip r:embed="rId2"/>
          <a:stretch/>
        </p:blipFill>
        <p:spPr>
          <a:xfrm>
            <a:off x="7862760" y="3276720"/>
            <a:ext cx="1281240" cy="1371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3d32"/>
          <p:cNvPicPr/>
          <p:nvPr/>
        </p:nvPicPr>
        <p:blipFill>
          <a:blip r:embed="rId3"/>
          <a:stretch/>
        </p:blipFill>
        <p:spPr>
          <a:xfrm>
            <a:off x="914400" y="685800"/>
            <a:ext cx="1371600" cy="11397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Три основных закона, которым подчинено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поведение ребенка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1-й закон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–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дети выбирают определенное поведение в определенных обстоятельствах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2-й закон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– любое поведение ребенка подчинено цели – чувствовать себя принадлежащим к жизни семьи, «чувствовать свою важность и значимость»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       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3-й закон –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арушая дисциплину, ребенок 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осознает, что ведет себя не правильно, но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может не осознавать, что за этим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арушениям    стоит определенная цель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или     причина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73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17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53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93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режде всего нам необходимо дать точное определение поведению, которое, на Ваш взгляд, является нежелательным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Это может оказаться не так легко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Бывают очевидные проблемы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ебенок дерется, грубит, убегает….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одобные формы поведения проявляются ярко и их  легко отнести к категории нежелательных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Однако бывают и менее явные проблемы: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ебенок может плакать, отказываться выполнять инструкции или просто не реагировать на Вас… Давайте посмотрим, как мы понимаем </a:t>
            </a:r>
            <a:r>
              <a:rPr b="1" lang="ru-RU" sz="2400" spc="-1" strike="noStrike">
                <a:solidFill>
                  <a:srgbClr val="000080"/>
                </a:solidFill>
                <a:latin typeface="Comic Sans MS"/>
              </a:rPr>
              <a:t>«</a:t>
            </a:r>
            <a:r>
              <a:rPr b="1" lang="ru-RU" sz="2800" spc="-1" strike="noStrike">
                <a:solidFill>
                  <a:srgbClr val="000080"/>
                </a:solidFill>
                <a:latin typeface="Comic Sans MS"/>
              </a:rPr>
              <a:t>нежелательное поведение»</a:t>
            </a:r>
            <a:r>
              <a:rPr b="1" lang="ru-RU" sz="2400" spc="-1" strike="noStrike">
                <a:solidFill>
                  <a:srgbClr val="00008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34" name="Picture 7" descr="ar3"/>
          <p:cNvPicPr/>
          <p:nvPr/>
        </p:nvPicPr>
        <p:blipFill>
          <a:blip r:embed="rId1"/>
          <a:stretch/>
        </p:blipFill>
        <p:spPr>
          <a:xfrm rot="2935800">
            <a:off x="6276600" y="1876320"/>
            <a:ext cx="628560" cy="685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ar3"/>
          <p:cNvPicPr/>
          <p:nvPr/>
        </p:nvPicPr>
        <p:blipFill>
          <a:blip r:embed="rId2"/>
          <a:stretch/>
        </p:blipFill>
        <p:spPr>
          <a:xfrm rot="2935800">
            <a:off x="7648200" y="4314600"/>
            <a:ext cx="628560" cy="685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ar3"/>
          <p:cNvPicPr/>
          <p:nvPr/>
        </p:nvPicPr>
        <p:blipFill>
          <a:blip r:embed="rId3"/>
          <a:stretch/>
        </p:blipFill>
        <p:spPr>
          <a:xfrm>
            <a:off x="7696080" y="6172200"/>
            <a:ext cx="628920" cy="685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ar3"/>
          <p:cNvPicPr/>
          <p:nvPr/>
        </p:nvPicPr>
        <p:blipFill>
          <a:blip r:embed="rId4"/>
          <a:stretch/>
        </p:blipFill>
        <p:spPr>
          <a:xfrm>
            <a:off x="8515440" y="6172200"/>
            <a:ext cx="6285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4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4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4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4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Необходимо выделить задачи для решения проблемы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grpSp>
        <p:nvGrpSpPr>
          <p:cNvPr id="139" name="Organization Chart 3"/>
          <p:cNvGrpSpPr/>
          <p:nvPr/>
        </p:nvGrpSpPr>
        <p:grpSpPr>
          <a:xfrm>
            <a:off x="380880" y="1542960"/>
            <a:ext cx="8533080" cy="5225400"/>
            <a:chOff x="380880" y="1542960"/>
            <a:chExt cx="8533080" cy="5225400"/>
          </a:xfrm>
        </p:grpSpPr>
        <p:cxnSp>
          <p:nvCxnSpPr>
            <p:cNvPr id="140" name="_s1028"/>
            <p:cNvCxnSpPr>
              <a:stCxn id="141" idx="1"/>
              <a:endCxn id="142" idx="2"/>
            </p:cNvCxnSpPr>
            <p:nvPr/>
          </p:nvCxnSpPr>
          <p:spPr>
            <a:xfrm rot="10800000">
              <a:off x="2940120" y="2288520"/>
              <a:ext cx="853920" cy="4106160"/>
            </a:xfrm>
            <a:prstGeom prst="bentConnector2">
              <a:avLst/>
            </a:prstGeom>
            <a:ln w="28440">
              <a:solidFill>
                <a:srgbClr val="000080"/>
              </a:solidFill>
              <a:miter/>
            </a:ln>
          </p:spPr>
        </p:cxnSp>
        <p:cxnSp>
          <p:nvCxnSpPr>
            <p:cNvPr id="143" name="_s1029"/>
            <p:cNvCxnSpPr>
              <a:stCxn id="144" idx="1"/>
              <a:endCxn id="142" idx="2"/>
            </p:cNvCxnSpPr>
            <p:nvPr/>
          </p:nvCxnSpPr>
          <p:spPr>
            <a:xfrm rot="10800000">
              <a:off x="2940120" y="2288520"/>
              <a:ext cx="853920" cy="2986920"/>
            </a:xfrm>
            <a:prstGeom prst="bentConnector2">
              <a:avLst/>
            </a:prstGeom>
            <a:ln w="28440">
              <a:solidFill>
                <a:srgbClr val="000080"/>
              </a:solidFill>
              <a:miter/>
            </a:ln>
          </p:spPr>
        </p:cxnSp>
        <p:cxnSp>
          <p:nvCxnSpPr>
            <p:cNvPr id="145" name="_s1030"/>
            <p:cNvCxnSpPr>
              <a:stCxn id="146" idx="1"/>
              <a:endCxn id="142" idx="2"/>
            </p:cNvCxnSpPr>
            <p:nvPr/>
          </p:nvCxnSpPr>
          <p:spPr>
            <a:xfrm rot="10800000">
              <a:off x="2940120" y="2288520"/>
              <a:ext cx="853920" cy="1866960"/>
            </a:xfrm>
            <a:prstGeom prst="bentConnector2">
              <a:avLst/>
            </a:prstGeom>
            <a:ln w="28440">
              <a:solidFill>
                <a:srgbClr val="000080"/>
              </a:solidFill>
              <a:miter/>
            </a:ln>
          </p:spPr>
        </p:cxnSp>
        <p:cxnSp>
          <p:nvCxnSpPr>
            <p:cNvPr id="147" name="_s1031"/>
            <p:cNvCxnSpPr>
              <a:stCxn id="148" idx="1"/>
              <a:endCxn id="142" idx="2"/>
            </p:cNvCxnSpPr>
            <p:nvPr/>
          </p:nvCxnSpPr>
          <p:spPr>
            <a:xfrm rot="10800000">
              <a:off x="2940120" y="2288520"/>
              <a:ext cx="853920" cy="747000"/>
            </a:xfrm>
            <a:prstGeom prst="bentConnector2">
              <a:avLst/>
            </a:prstGeom>
            <a:ln w="28440">
              <a:solidFill>
                <a:srgbClr val="000080"/>
              </a:solidFill>
              <a:miter/>
            </a:ln>
          </p:spPr>
        </p:cxnSp>
        <p:sp>
          <p:nvSpPr>
            <p:cNvPr id="142" name="_s1032"/>
            <p:cNvSpPr/>
            <p:nvPr/>
          </p:nvSpPr>
          <p:spPr>
            <a:xfrm>
              <a:off x="380880" y="154296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80"/>
                  </a:solidFill>
                  <a:latin typeface="Comic Sans MS"/>
                </a:rPr>
                <a:t>Основные задачи</a:t>
              </a:r>
              <a:endParaRPr b="0" lang="en-US" sz="3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48" name="_s1033"/>
            <p:cNvSpPr/>
            <p:nvPr/>
          </p:nvSpPr>
          <p:spPr>
            <a:xfrm>
              <a:off x="3794040" y="266256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Comic Sans MS"/>
                </a:rPr>
                <a:t>Объективно описать поведения ребенка</a:t>
              </a:r>
              <a:endParaRPr b="0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46" name="_s1034"/>
            <p:cNvSpPr/>
            <p:nvPr/>
          </p:nvSpPr>
          <p:spPr>
            <a:xfrm>
              <a:off x="3794040" y="378252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Comic Sans MS"/>
                </a:rPr>
                <a:t>Понять мотив «плохого» поведения</a:t>
              </a:r>
              <a:endParaRPr b="0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44" name="_s1035"/>
            <p:cNvSpPr/>
            <p:nvPr/>
          </p:nvSpPr>
          <p:spPr>
            <a:xfrm>
              <a:off x="3794040" y="490212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Comic Sans MS"/>
                </a:rPr>
                <a:t>Выбрать технику(</a:t>
              </a:r>
              <a:r>
                <a:rPr b="1" lang="en-US" sz="1600" spc="-1" strike="noStrike">
                  <a:solidFill>
                    <a:srgbClr val="000080"/>
                  </a:solidFill>
                  <a:latin typeface="Comic Sans MS"/>
                </a:rPr>
                <a:t>для прекращения выходки)</a:t>
              </a:r>
              <a:endParaRPr b="0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41" name="_s1036"/>
            <p:cNvSpPr/>
            <p:nvPr/>
          </p:nvSpPr>
          <p:spPr>
            <a:xfrm>
              <a:off x="3794040" y="602208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Comic Sans MS"/>
                </a:rPr>
                <a:t>Разработать стратегию и тактику</a:t>
              </a:r>
              <a:endParaRPr b="0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pic>
          <p:nvPicPr>
            <p:cNvPr id="149" name="Picture 19" descr=""/>
            <p:cNvPicPr/>
            <p:nvPr/>
          </p:nvPicPr>
          <p:blipFill>
            <a:blip r:embed="rId1"/>
            <a:stretch/>
          </p:blipFill>
          <p:spPr>
            <a:xfrm>
              <a:off x="1749960" y="2589840"/>
              <a:ext cx="75780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20" descr=""/>
            <p:cNvPicPr/>
            <p:nvPr/>
          </p:nvPicPr>
          <p:blipFill>
            <a:blip r:embed="rId2"/>
            <a:stretch/>
          </p:blipFill>
          <p:spPr>
            <a:xfrm>
              <a:off x="1749960" y="3504960"/>
              <a:ext cx="77508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21" descr=""/>
            <p:cNvPicPr/>
            <p:nvPr/>
          </p:nvPicPr>
          <p:blipFill>
            <a:blip r:embed="rId3"/>
            <a:stretch/>
          </p:blipFill>
          <p:spPr>
            <a:xfrm>
              <a:off x="1749960" y="4419720"/>
              <a:ext cx="7750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22" descr=""/>
            <p:cNvPicPr/>
            <p:nvPr/>
          </p:nvPicPr>
          <p:blipFill>
            <a:blip r:embed="rId4"/>
            <a:stretch/>
          </p:blipFill>
          <p:spPr>
            <a:xfrm>
              <a:off x="1749960" y="5485320"/>
              <a:ext cx="781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80"/>
                </a:solidFill>
                <a:latin typeface="Comic Sans MS"/>
              </a:rPr>
              <a:t>Причины нарушения поведения</a:t>
            </a:r>
            <a:endParaRPr b="0" lang="en-US" sz="4200" spc="-1" strike="noStrike">
              <a:solidFill>
                <a:srgbClr val="3366cc"/>
              </a:solidFill>
              <a:latin typeface="Arial Black"/>
            </a:endParaRPr>
          </a:p>
        </p:txBody>
      </p:sp>
      <p:grpSp>
        <p:nvGrpSpPr>
          <p:cNvPr id="154" name="Diagram 3"/>
          <p:cNvGrpSpPr/>
          <p:nvPr/>
        </p:nvGrpSpPr>
        <p:grpSpPr>
          <a:xfrm>
            <a:off x="838080" y="1752480"/>
            <a:ext cx="7872480" cy="4191120"/>
            <a:chOff x="838080" y="1752480"/>
            <a:chExt cx="7872480" cy="4191120"/>
          </a:xfrm>
        </p:grpSpPr>
        <p:sp>
          <p:nvSpPr>
            <p:cNvPr id="155" name="_s2052"/>
            <p:cNvSpPr/>
            <p:nvPr/>
          </p:nvSpPr>
          <p:spPr>
            <a:xfrm>
              <a:off x="3957480" y="2381400"/>
              <a:ext cx="1686240" cy="1685880"/>
            </a:xfrm>
            <a:prstGeom prst="ellipse">
              <a:avLst/>
            </a:prstGeom>
            <a:solidFill>
              <a:srgbClr val="6699ff">
                <a:alpha val="50000"/>
              </a:srgbClr>
            </a:solidFill>
            <a:ln w="468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56" name="_s2053"/>
            <p:cNvSpPr/>
            <p:nvPr/>
          </p:nvSpPr>
          <p:spPr>
            <a:xfrm>
              <a:off x="3048120" y="1752480"/>
              <a:ext cx="3962160" cy="493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Comic Sans MS"/>
                </a:rPr>
                <a:t>Привлечение внимания</a:t>
              </a: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57" name="_s2054"/>
            <p:cNvSpPr/>
            <p:nvPr/>
          </p:nvSpPr>
          <p:spPr>
            <a:xfrm>
              <a:off x="4599000" y="3022560"/>
              <a:ext cx="1685880" cy="1685880"/>
            </a:xfrm>
            <a:prstGeom prst="ellipse">
              <a:avLst/>
            </a:prstGeom>
            <a:solidFill>
              <a:srgbClr val="9933ff">
                <a:alpha val="50000"/>
              </a:srgbClr>
            </a:solidFill>
            <a:ln w="468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58" name="_s2055"/>
            <p:cNvSpPr/>
            <p:nvPr/>
          </p:nvSpPr>
          <p:spPr>
            <a:xfrm>
              <a:off x="6477120" y="3657600"/>
              <a:ext cx="2233440" cy="458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Comic Sans MS"/>
                </a:rPr>
                <a:t>Власть</a:t>
              </a: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59" name="_s2056"/>
            <p:cNvSpPr/>
            <p:nvPr/>
          </p:nvSpPr>
          <p:spPr>
            <a:xfrm>
              <a:off x="3957480" y="3664080"/>
              <a:ext cx="1686240" cy="168588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60" name="_s2057"/>
            <p:cNvSpPr/>
            <p:nvPr/>
          </p:nvSpPr>
          <p:spPr>
            <a:xfrm>
              <a:off x="3124080" y="5562720"/>
              <a:ext cx="3810240" cy="380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Comic Sans MS"/>
                </a:rPr>
                <a:t>Избегание неудач</a:t>
              </a: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61" name="_s2058"/>
            <p:cNvSpPr/>
            <p:nvPr/>
          </p:nvSpPr>
          <p:spPr>
            <a:xfrm>
              <a:off x="3316320" y="3022560"/>
              <a:ext cx="1685880" cy="1685880"/>
            </a:xfrm>
            <a:prstGeom prst="ellipse">
              <a:avLst/>
            </a:prstGeom>
            <a:solidFill>
              <a:srgbClr val="7a7c93">
                <a:alpha val="50000"/>
              </a:srgbClr>
            </a:solidFill>
            <a:ln w="4680">
              <a:solidFill>
                <a:srgbClr val="7a7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62" name="_s2059"/>
            <p:cNvSpPr/>
            <p:nvPr/>
          </p:nvSpPr>
          <p:spPr>
            <a:xfrm>
              <a:off x="838080" y="3657600"/>
              <a:ext cx="2309760" cy="5349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Comic Sans MS"/>
                </a:rPr>
                <a:t>Месть</a:t>
              </a: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80"/>
                </a:solidFill>
                <a:uFillTx/>
                <a:latin typeface="Comic Sans MS"/>
              </a:rPr>
              <a:t>Привлечение внимания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7621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ирода поведения, направленного на привлечения внимания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одители и учителя больше внимания уделяют детям, которые ведут себя плохо, а не хорошо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Дети не научены просить внимания в приемлемой форме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Дети часто испытывают дефицит личного внимания к себе, чувствуют себя «пустым местом»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Arial"/>
              </a:rPr>
              <a:t>Реакция взрослого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- раздражение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- возмущение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- словесные замеча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- угрозы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65" name="Picture 4" descr="an21"/>
          <p:cNvPicPr/>
          <p:nvPr/>
        </p:nvPicPr>
        <p:blipFill>
          <a:blip r:embed="rId1"/>
          <a:stretch/>
        </p:blipFill>
        <p:spPr>
          <a:xfrm>
            <a:off x="1523880" y="4952880"/>
            <a:ext cx="1371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2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2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2900"/>
                            </p:stCondLst>
                            <p:childTnLst>
                              <p:par>
                                <p:cTn id="2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2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8900"/>
                            </p:stCondLst>
                            <p:childTnLst>
                              <p:par>
                                <p:cTn id="3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1900"/>
                            </p:stCondLst>
                            <p:childTnLst>
                              <p:par>
                                <p:cTn id="3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24900"/>
                            </p:stCondLst>
                            <p:childTnLst>
                              <p:par>
                                <p:cTn id="3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80"/>
                </a:solidFill>
                <a:uFillTx/>
                <a:latin typeface="Comic Sans MS"/>
              </a:rPr>
              <a:t>Власть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Природа данного поведения</a:t>
            </a:r>
            <a:r>
              <a:rPr b="0" lang="ru-RU" sz="2800" spc="-1" strike="noStrike" u="sng">
                <a:solidFill>
                  <a:srgbClr val="61636b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Мода на «сильную личность» учит утверждению своей силы, а не конструктивному подчинению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исутствие в нашем обществе установки «Кто имеет власть, тот имеет все!»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Реакция взрослого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Гнев, негодование, страх ( не справиться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емедленно прекратить выходку с помощью физического воздействия (встряхнуть, ударить…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68" name="Picture 5" descr="an99"/>
          <p:cNvPicPr/>
          <p:nvPr/>
        </p:nvPicPr>
        <p:blipFill>
          <a:blip r:embed="rId1"/>
          <a:stretch/>
        </p:blipFill>
        <p:spPr>
          <a:xfrm>
            <a:off x="838080" y="304920"/>
            <a:ext cx="19814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3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4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4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9250"/>
                            </p:stCondLst>
                            <p:childTnLst>
                              <p:par>
                                <p:cTn id="4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1250"/>
                            </p:stCondLst>
                            <p:childTnLst>
                              <p:par>
                                <p:cTn id="4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80"/>
                </a:solidFill>
                <a:uFillTx/>
                <a:latin typeface="Comic Sans MS"/>
              </a:rPr>
              <a:t>Избегание неудач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7621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ирода поведения, направленного на избегание неудач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Отношение у ребенка к заданиям и просьбам изначально предвзятое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Необоснованные ожидания родителей и учителей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Вера ребенка, что ему подходит быть  только самым-самым!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Упор на соревнования, сравнения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Реакция взрослого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Чувство беспомощности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Хочется оправдаться и объяснить поведение ребенка (иногда с помощью специалиста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4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5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5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5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5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5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5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5700"/>
                            </p:stCondLst>
                            <p:childTnLst>
                              <p:par>
                                <p:cTn id="6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tter</dc:creator>
  <dc:description/>
  <dc:language>en-US</dc:language>
  <cp:lastModifiedBy>Otter</cp:lastModifiedBy>
  <dcterms:modified xsi:type="dcterms:W3CDTF">2022-02-02T06:38:01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