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png" ContentType="image/png"/>
  <Override PartName="/ppt/media/image4.gif" ContentType="image/gif"/>
  <Override PartName="/ppt/media/image30.wmf" ContentType="image/x-wmf"/>
  <Override PartName="/ppt/media/image34.gif" ContentType="image/gif"/>
  <Override PartName="/ppt/media/image26.png" ContentType="image/png"/>
  <Override PartName="/ppt/media/image3.gif" ContentType="image/gif"/>
  <Override PartName="/ppt/media/image33.gif" ContentType="image/gif"/>
  <Override PartName="/ppt/media/image25.wmf" ContentType="image/x-wmf"/>
  <Override PartName="/ppt/media/image24.wmf" ContentType="image/x-wmf"/>
  <Override PartName="/ppt/media/image23.png" ContentType="image/png"/>
  <Override PartName="/ppt/media/image19.wmf" ContentType="image/x-wmf"/>
  <Override PartName="/ppt/media/image21.wmf" ContentType="image/x-wmf"/>
  <Override PartName="/ppt/media/image18.wmf" ContentType="image/x-wmf"/>
  <Override PartName="/ppt/media/image20.wmf" ContentType="image/x-wmf"/>
  <Override PartName="/ppt/media/image12.gif" ContentType="image/gif"/>
  <Override PartName="/ppt/media/image16.png" ContentType="image/png"/>
  <Override PartName="/ppt/media/image13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38.gif" ContentType="image/gif"/>
  <Override PartName="/ppt/media/image9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gif" ContentType="image/gif"/>
  <Override PartName="/ppt/media/image36.gif" ContentType="image/gif"/>
  <Override PartName="/ppt/media/image6.gif" ContentType="image/gif"/>
  <Override PartName="/ppt/media/image32.wmf" ContentType="image/x-wmf"/>
  <Override PartName="/ppt/media/image10.gif" ContentType="image/gif"/>
  <Override PartName="/ppt/media/image35.gif" ContentType="image/gif"/>
  <Override PartName="/ppt/media/image31.wmf" ContentType="image/x-wmf"/>
  <Override PartName="/ppt/media/image5.gif" ContentType="image/gif"/>
  <Override PartName="/ppt/media/image1.jpeg" ContentType="image/jpeg"/>
  <Override PartName="/ppt/media/image2.gif" ContentType="image/gif"/>
  <Override PartName="/ppt/media/image14.gif" ContentType="image/gif"/>
  <Override PartName="/ppt/media/image15.gif" ContentType="image/gif"/>
  <Override PartName="/ppt/media/image17.gif" ContentType="image/gi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308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BA4-0E9F-47C6-811E-A2EDF81F0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DF8-E1A0-4A98-A069-EAB2EE395250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653080" y="6491160"/>
            <a:ext cx="432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47F-B0A6-4EBD-AF7B-7E70A3436C67}" type="slidenum">
              <a:rPr b="0" lang="ru-RU" sz="1200" spc="-1" strike="noStrike">
                <a:solidFill>
                  <a:srgbClr val="0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98640" y="3246480"/>
            <a:ext cx="798192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37D-D823-46A9-819C-F0B926E9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607-B7BE-43E0-8E14-EA497E98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CB6-7C1A-42E3-8705-A2B703A6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754-0981-4E30-8F1E-2A88E3A9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2169-11F9-4BC7-A05A-00B89558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776A-E881-478B-A2C1-4646635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A39F-3833-4A9F-9D0C-D053A0C1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FF12-ACEA-488F-B7B9-1D8C3CEC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9DF-28C0-49E4-9F04-2EFF39DA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3D9B-AE9E-4B11-9F9C-5A95F4D5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4FD-A2CA-40DE-B57D-36B506E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41D-5676-4B59-86B3-3F5F544E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004F-822D-4FBC-8C9A-28D79B9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C4C6-302E-4A20-AFDF-26136DF3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A72A-5842-471C-88D3-DA1FAA18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E05C-D28F-4355-94B4-260E3E6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7B4A-F4E7-48C9-9FBE-F3039176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992-6343-482E-86B0-2E9DB979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27D-9797-484F-A742-11390599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ACA-D0D6-45AF-BD0F-CA36B62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F06-E1D4-45B4-AE72-859C42B4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9E3-395E-49FC-8376-9D9BE30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0F4-5D4A-46DD-8A8C-543EA30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77B-A761-457F-A507-FC26D64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7F2-A399-4CEB-A1BA-50139F1A4D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prstGeom prst="pi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9933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758F-6651-4216-B303-AC9596CD698D}" type="slidenum"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60"/>
                </a:solidFill>
                <a:latin typeface="Comic Sans MS"/>
              </a:rPr>
              <a:t>Предупреждение нарушений в поведении ребенка</a:t>
            </a:r>
            <a:r>
              <a:rPr b="0" lang="ru-RU" sz="4000" spc="-1" strike="noStrike">
                <a:solidFill>
                  <a:srgbClr val="00006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117" name="Picture 4" descr="deva213"/>
          <p:cNvPicPr/>
          <p:nvPr/>
        </p:nvPicPr>
        <p:blipFill>
          <a:blip r:embed="rId1"/>
          <a:stretch/>
        </p:blipFill>
        <p:spPr>
          <a:xfrm>
            <a:off x="541008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eva214"/>
          <p:cNvPicPr/>
          <p:nvPr/>
        </p:nvPicPr>
        <p:blipFill>
          <a:blip r:embed="rId2"/>
          <a:stretch/>
        </p:blipFill>
        <p:spPr>
          <a:xfrm>
            <a:off x="13716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eva216"/>
          <p:cNvPicPr/>
          <p:nvPr/>
        </p:nvPicPr>
        <p:blipFill>
          <a:blip r:embed="rId3"/>
          <a:stretch/>
        </p:blipFill>
        <p:spPr>
          <a:xfrm>
            <a:off x="342900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va215"/>
          <p:cNvPicPr/>
          <p:nvPr/>
        </p:nvPicPr>
        <p:blipFill>
          <a:blip r:embed="rId4"/>
          <a:stretch/>
        </p:blipFill>
        <p:spPr>
          <a:xfrm>
            <a:off x="7391520" y="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6">
            <a:hlinkClick r:id="rId5"/>
          </p:cNvPr>
          <p:cNvSpPr/>
          <p:nvPr/>
        </p:nvSpPr>
        <p:spPr>
          <a:xfrm flipV="1">
            <a:off x="7162920" y="6858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мстительного повед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тражение роста насилия в обществе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Распространение через средства массовой информации стиля «силового» решения конфликта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Обида, боль, опустошение в дополнение к гневу, негодованию и страху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медленно ответить силой как равному (подавить),уйти из ситуации (убежать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3" name="Picture 4" descr="pingv04"/>
          <p:cNvPicPr/>
          <p:nvPr/>
        </p:nvPicPr>
        <p:blipFill>
          <a:blip r:embed="rId1"/>
          <a:stretch/>
        </p:blipFill>
        <p:spPr>
          <a:xfrm>
            <a:off x="6705720" y="228600"/>
            <a:ext cx="2076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mic Sans MS"/>
              </a:rPr>
              <a:t>Есть ли хорошее в плохом?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.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нуждаются в общении с родителями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2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 демонстрируют лидерские способности: умение независимо мыслить, способность сопротивляться авторитетам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3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Месть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демонстрируют высокую жизнеспособность, умение защитится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4.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«</a:t>
            </a:r>
            <a:r>
              <a:rPr b="1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»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ети хотят и могут добиться успеха.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76" name="Picture 10" descr="line92"/>
          <p:cNvPicPr/>
          <p:nvPr/>
        </p:nvPicPr>
        <p:blipFill>
          <a:blip r:embed="rId1"/>
          <a:stretch/>
        </p:blipFill>
        <p:spPr>
          <a:xfrm>
            <a:off x="4114800" y="762120"/>
            <a:ext cx="4838760" cy="333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sw54"/>
          <p:cNvPicPr/>
          <p:nvPr/>
        </p:nvPicPr>
        <p:blipFill>
          <a:blip r:embed="rId2"/>
          <a:stretch/>
        </p:blipFill>
        <p:spPr>
          <a:xfrm>
            <a:off x="7095960" y="5068800"/>
            <a:ext cx="20480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0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первый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Установить и поддерживать отношения равенства и взаимного уваж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Picture 4" descr="MCj04360490000[1]"/>
          <p:cNvPicPr/>
          <p:nvPr/>
        </p:nvPicPr>
        <p:blipFill>
          <a:blip r:embed="rId1"/>
          <a:stretch/>
        </p:blipFill>
        <p:spPr>
          <a:xfrm>
            <a:off x="1066680" y="3505320"/>
            <a:ext cx="221004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Cj04360450000[1]"/>
          <p:cNvPicPr/>
          <p:nvPr/>
        </p:nvPicPr>
        <p:blipFill>
          <a:blip r:embed="rId2"/>
          <a:stretch/>
        </p:blipFill>
        <p:spPr>
          <a:xfrm>
            <a:off x="6781680" y="3429000"/>
            <a:ext cx="21574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4244660000[1]"/>
          <p:cNvPicPr/>
          <p:nvPr/>
        </p:nvPicPr>
        <p:blipFill>
          <a:blip r:embed="rId3"/>
          <a:stretch/>
        </p:blipFill>
        <p:spPr>
          <a:xfrm>
            <a:off x="4038480" y="41148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второ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нять причину поведения ребенка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5" name="Picture 5" descr="MCj04357430000[1]"/>
          <p:cNvPicPr/>
          <p:nvPr/>
        </p:nvPicPr>
        <p:blipFill>
          <a:blip r:embed="rId1"/>
          <a:stretch/>
        </p:blipFill>
        <p:spPr>
          <a:xfrm>
            <a:off x="7467480" y="3276720"/>
            <a:ext cx="12747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boys11"/>
          <p:cNvPicPr/>
          <p:nvPr/>
        </p:nvPicPr>
        <p:blipFill>
          <a:blip r:embed="rId2"/>
          <a:stretch/>
        </p:blipFill>
        <p:spPr>
          <a:xfrm>
            <a:off x="1523880" y="3505320"/>
            <a:ext cx="146700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Cj04338180000[1]"/>
          <p:cNvPicPr/>
          <p:nvPr/>
        </p:nvPicPr>
        <p:blipFill>
          <a:blip r:embed="rId3"/>
          <a:stretch/>
        </p:blipFill>
        <p:spPr>
          <a:xfrm>
            <a:off x="39625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28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трети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чь ребенку определить и осознать причину нежелательного поведения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СУЖДАЮЩИ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разо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0" name="Picture 4" descr="MCj03973620000[1]"/>
          <p:cNvPicPr/>
          <p:nvPr/>
        </p:nvPicPr>
        <p:blipFill>
          <a:blip r:embed="rId1"/>
          <a:stretch/>
        </p:blipFill>
        <p:spPr>
          <a:xfrm>
            <a:off x="6781680" y="4572000"/>
            <a:ext cx="236232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Cj04303700000[1]"/>
          <p:cNvPicPr/>
          <p:nvPr/>
        </p:nvPicPr>
        <p:blipFill>
          <a:blip r:embed="rId2"/>
          <a:stretch/>
        </p:blipFill>
        <p:spPr>
          <a:xfrm>
            <a:off x="914400" y="4267080"/>
            <a:ext cx="2057400" cy="1978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4338160000[1]"/>
          <p:cNvPicPr/>
          <p:nvPr/>
        </p:nvPicPr>
        <p:blipFill>
          <a:blip r:embed="rId3"/>
          <a:stretch/>
        </p:blipFill>
        <p:spPr>
          <a:xfrm>
            <a:off x="39625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Шаг четвертый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едупреждать возникновение проблемных ситуаций, установив доверительные отношения с ребенком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95" name="Picture 4" descr="MCj04338230000[1]"/>
          <p:cNvPicPr/>
          <p:nvPr/>
        </p:nvPicPr>
        <p:blipFill>
          <a:blip r:embed="rId1"/>
          <a:stretch/>
        </p:blipFill>
        <p:spPr>
          <a:xfrm>
            <a:off x="41148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Cj04344530000[1]"/>
          <p:cNvPicPr/>
          <p:nvPr/>
        </p:nvPicPr>
        <p:blipFill>
          <a:blip r:embed="rId2"/>
          <a:stretch/>
        </p:blipFill>
        <p:spPr>
          <a:xfrm>
            <a:off x="914400" y="4191120"/>
            <a:ext cx="2590920" cy="1666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Cj04344550000[1]"/>
          <p:cNvPicPr/>
          <p:nvPr/>
        </p:nvPicPr>
        <p:blipFill>
          <a:blip r:embed="rId3"/>
          <a:stretch/>
        </p:blipFill>
        <p:spPr>
          <a:xfrm>
            <a:off x="6553080" y="4114800"/>
            <a:ext cx="2133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ЯТЬ ШАГОВ ДЛЯ ПЕРЕОРИЕНТАЦИИ ПЛОХОГО ПОВЕДЕНИЯ</a:t>
            </a: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Шаг пятый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Обеспечить ребенку возможность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могать (понять смысл чувства полезност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отрудничать (объяснять, насколько больше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н сможет сделать, работая вместе с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ями и братьями, сестрами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лать то, что ему по силам (чтоб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сделать ситуацию более приятной)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учить правильно решать пробле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(анализировать поступки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Picture 4" descr="MCj04244700000[1]"/>
          <p:cNvPicPr/>
          <p:nvPr/>
        </p:nvPicPr>
        <p:blipFill>
          <a:blip r:embed="rId1"/>
          <a:stretch/>
        </p:blipFill>
        <p:spPr>
          <a:xfrm>
            <a:off x="762120" y="27432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Cj04244700000[1]"/>
          <p:cNvPicPr/>
          <p:nvPr/>
        </p:nvPicPr>
        <p:blipFill>
          <a:blip r:embed="rId2"/>
          <a:stretch/>
        </p:blipFill>
        <p:spPr>
          <a:xfrm>
            <a:off x="1219320" y="335268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MCj04244700000[1]"/>
          <p:cNvPicPr/>
          <p:nvPr/>
        </p:nvPicPr>
        <p:blipFill>
          <a:blip r:embed="rId3"/>
          <a:stretch/>
        </p:blipFill>
        <p:spPr>
          <a:xfrm>
            <a:off x="914400" y="4572000"/>
            <a:ext cx="533520" cy="50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MCj04244700000[1]"/>
          <p:cNvPicPr/>
          <p:nvPr/>
        </p:nvPicPr>
        <p:blipFill>
          <a:blip r:embed="rId4"/>
          <a:stretch/>
        </p:blipFill>
        <p:spPr>
          <a:xfrm>
            <a:off x="2362320" y="5486400"/>
            <a:ext cx="533160" cy="50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Cj04283210000[1]"/>
          <p:cNvPicPr/>
          <p:nvPr/>
        </p:nvPicPr>
        <p:blipFill>
          <a:blip r:embed="rId5"/>
          <a:stretch/>
        </p:blipFill>
        <p:spPr>
          <a:xfrm>
            <a:off x="7315200" y="914400"/>
            <a:ext cx="1600200" cy="130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3975980000[1]"/>
          <p:cNvPicPr/>
          <p:nvPr/>
        </p:nvPicPr>
        <p:blipFill>
          <a:blip r:embed="rId6"/>
          <a:stretch/>
        </p:blipFill>
        <p:spPr>
          <a:xfrm>
            <a:off x="762120" y="762120"/>
            <a:ext cx="1447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Comic Sans MS"/>
              </a:rPr>
              <a:t>Что же делать, для предупреждения нарушений в поведении ребенка?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pic>
        <p:nvPicPr>
          <p:cNvPr id="207" name="Picture 8" descr="elf121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196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elf123"/>
          <p:cNvPicPr/>
          <p:nvPr/>
        </p:nvPicPr>
        <p:blipFill>
          <a:blip r:embed="rId2"/>
          <a:stretch/>
        </p:blipFill>
        <p:spPr>
          <a:xfrm>
            <a:off x="6912000" y="4038480"/>
            <a:ext cx="153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br>
              <a:rPr sz="3200"/>
            </a:b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се дети жаждут внимания!»</a:t>
            </a: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 за хорошие дела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бъятия, улыбки, интерес и похвала являются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ознаграждением и, следовательно, сильным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будительным мотивом вести себя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  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"хорошо"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Внимание, которое следует за нежелательным поведением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приятные слова или нахмуренные брови и резко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брошенное: "Прекрати!" с точки зрения ребенка – это тоже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проявление вним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1" name="Picture 4" descr="homa84"/>
          <p:cNvPicPr/>
          <p:nvPr/>
        </p:nvPicPr>
        <p:blipFill>
          <a:blip r:embed="rId1"/>
          <a:stretch/>
        </p:blipFill>
        <p:spPr>
          <a:xfrm>
            <a:off x="914400" y="750960"/>
            <a:ext cx="18288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авильно проявлять внимание к ребенку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3962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овышенное внимание (сверозабоченность)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чистить зубы или у тебя будут дырки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, чтобы ты смотрел телевизор весь вечер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ерестань драться сию же минуту! 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Ты должен ходить в школу или ты не сможешь получить хорошей работы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Ешь, что я приготовила, тебе эта еда полезна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2880" y="761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Переделано к модели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80"/>
                </a:solidFill>
                <a:uFillTx/>
                <a:latin typeface="Comic Sans MS"/>
              </a:rPr>
              <a:t>уважения: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беспокоюсь, что придеться идти к зубному врач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После 9 часов вечера комната мне нужна самому"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рисковать твоим здоровьем, позволяя тебе драться»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Когда ты так много пропускаешь в школе, учителя звонят мне. Я не знаю, что им говорить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"Я не хочу всем готовить разную еду"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Изменить нежелательное поведение ребёнка - задача очень непростая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амного проще воврем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            предупредить нарушения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Для этого необходимо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роанализировать и понять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что для Вас является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   нарушением поведения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4" name="Picture 6" descr="lines16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ines16"/>
          <p:cNvPicPr/>
          <p:nvPr/>
        </p:nvPicPr>
        <p:blipFill>
          <a:blip r:embed="rId2"/>
          <a:stretch/>
        </p:blipFill>
        <p:spPr>
          <a:xfrm>
            <a:off x="762120" y="1447920"/>
            <a:ext cx="380988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eople072"/>
          <p:cNvPicPr/>
          <p:nvPr/>
        </p:nvPicPr>
        <p:blipFill>
          <a:blip r:embed="rId3"/>
          <a:stretch/>
        </p:blipFill>
        <p:spPr>
          <a:xfrm>
            <a:off x="1066680" y="483876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Следить за своими словами и действиями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Чем меньше мы знаем, что делать, тем больше мы знаем, что должны делать другие!»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икто не хочет, чтобы им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понукал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обходимо действовать и говорить другим,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М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собираемся делать, а не что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должны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 делать </a:t>
            </a:r>
            <a:r>
              <a:rPr b="0" lang="ru-RU" sz="3200" spc="-1" strike="noStrike" u="sng">
                <a:solidFill>
                  <a:srgbClr val="000080"/>
                </a:solidFill>
                <a:uFillTx/>
                <a:latin typeface="Comic Sans MS"/>
              </a:rPr>
              <a:t>ОНИ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17" name="Picture 5" descr="lines8"/>
          <p:cNvPicPr/>
          <p:nvPr/>
        </p:nvPicPr>
        <p:blipFill>
          <a:blip r:embed="rId1"/>
          <a:stretch/>
        </p:blipFill>
        <p:spPr>
          <a:xfrm>
            <a:off x="1600200" y="2819520"/>
            <a:ext cx="69343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Несколько лишних, но отнюдь не ненужных слов!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3124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     </a:t>
            </a: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Указ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ерестан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торопись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("Одевайся!"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исти зубы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Покорми собаку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Убирайся отсюда!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33920" y="114264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Предложе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мог бы ты играть не так шумно или пойти играть в 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своей комнате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тел бы ты одеваться здесь или в машине (</a:t>
            </a: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а площадке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)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Что ты предпочитаешь: чистить зубы или не есть сладкого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Хочешь покормить собаку или вынести мусор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"Не хочешь ли ты покинуть комнату или ты предпочитаешь, чтобы я тебя вытащил?"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0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«НЕТ», не «НЕ-Е-ЕТ!!!»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83055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Говорить «нет» и отстаивать свое мнение необходимо!»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«НЕТ» не должно быть наказанием, оно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должно быть осознаваемым для ребенка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чему «НЕТ», объяснит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Чем старше ребенок, тем труднее говорить «НЕТ»,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а уж объяснить почему, вообще кошмар! (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ы же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уже взрослый, сам не понимаешь, почему?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дходите к ответам на вопросы с детской стороны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Они,  может быть, и правда не понимают</a:t>
            </a:r>
            <a:r>
              <a:rPr b="1" lang="ru-RU" sz="3200" spc="-1" strike="noStrike">
                <a:solidFill>
                  <a:srgbClr val="000080"/>
                </a:solidFill>
                <a:latin typeface="Comic Sans MS"/>
              </a:rPr>
              <a:t>!!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3" name="Picture 5" descr="homa18"/>
          <p:cNvPicPr/>
          <p:nvPr/>
        </p:nvPicPr>
        <p:blipFill>
          <a:blip r:embed="rId1"/>
          <a:stretch/>
        </p:blipFill>
        <p:spPr>
          <a:xfrm>
            <a:off x="380880" y="76212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0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3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Comic Sans MS"/>
              </a:rPr>
              <a:t>Попробуйте заменить слово «НЕТ»</a:t>
            </a:r>
            <a:br>
              <a:rPr sz="3600"/>
            </a:b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Не сейчас, потому, что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Я подумаю, и тогда…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Как ты думаешь, разумно ли это…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6" name="Picture 4" descr="ribka22"/>
          <p:cNvPicPr/>
          <p:nvPr/>
        </p:nvPicPr>
        <p:blipFill>
          <a:blip r:embed="rId1"/>
          <a:stretch/>
        </p:blipFill>
        <p:spPr>
          <a:xfrm>
            <a:off x="8001000" y="1905120"/>
            <a:ext cx="85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0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Решать только одну проблему за раз</a:t>
            </a: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«Не старайтесь поймать ребенка на проступках и складывать все в один тазик!!!»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Может быть, проблема вытекает одна из другой, а может, они не связаны и ребенку от непонимания только хуже!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опробуйте сосредоточиться на чем-то одном!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29" name="Picture 7" descr="мальчик с вопосом"/>
          <p:cNvPicPr/>
          <p:nvPr/>
        </p:nvPicPr>
        <p:blipFill>
          <a:blip r:embed="rId1"/>
          <a:stretch/>
        </p:blipFill>
        <p:spPr>
          <a:xfrm>
            <a:off x="3733920" y="1828800"/>
            <a:ext cx="22096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0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3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Comic Sans MS"/>
              </a:rPr>
              <a:t>Помогайте ему анализировать ситуацию, чтобы не совершать подобные проступки!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«2» по поведению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br>
              <a:rPr sz="2400"/>
            </a:b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1506240"/>
            <a:ext cx="350532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над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чему?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 чем причина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ты поступил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надо было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как поступил взрослый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а как он, на твой взгляд, должен был поступить?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600" y="137160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Как делаем м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я так и знала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аешься дурью, уроки не учи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вещи не убираешь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только хулиганить можешь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облема не выделе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растерян!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За что ему оправдываться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33" name="Picture 6" descr="tani07"/>
          <p:cNvPicPr/>
          <p:nvPr/>
        </p:nvPicPr>
        <p:blipFill>
          <a:blip r:embed="rId1"/>
          <a:stretch/>
        </p:blipFill>
        <p:spPr>
          <a:xfrm>
            <a:off x="304920" y="114300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deva71"/>
          <p:cNvPicPr/>
          <p:nvPr/>
        </p:nvPicPr>
        <p:blipFill>
          <a:blip r:embed="rId2"/>
          <a:stretch/>
        </p:blipFill>
        <p:spPr>
          <a:xfrm>
            <a:off x="8077320" y="320040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6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rakon007"/>
          <p:cNvPicPr/>
          <p:nvPr/>
        </p:nvPicPr>
        <p:blipFill>
          <a:blip r:embed="rId1"/>
          <a:stretch/>
        </p:blipFill>
        <p:spPr>
          <a:xfrm>
            <a:off x="914400" y="4724280"/>
            <a:ext cx="1290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3d28"/>
          <p:cNvPicPr/>
          <p:nvPr/>
        </p:nvPicPr>
        <p:blipFill>
          <a:blip r:embed="rId2"/>
          <a:stretch/>
        </p:blipFill>
        <p:spPr>
          <a:xfrm>
            <a:off x="7862760" y="3276720"/>
            <a:ext cx="12812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d32"/>
          <p:cNvPicPr/>
          <p:nvPr/>
        </p:nvPicPr>
        <p:blipFill>
          <a:blip r:embed="rId3"/>
          <a:stretch/>
        </p:blipFill>
        <p:spPr>
          <a:xfrm>
            <a:off x="914400" y="685800"/>
            <a:ext cx="1371600" cy="1139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Три основных закона, которым подчинено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поведение ребенка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1-й закон</a:t>
            </a: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выбирают определенное поведение в определенных обстоятельствах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2-й закон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– любое поведение ребенка подчинено цели – чувствовать себя принадлежащим к жизни семьи, «чувствовать свою важность и значимость»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         </a:t>
            </a:r>
            <a:r>
              <a:rPr b="0" lang="ru-RU" sz="2800" spc="-1" strike="noStrike" u="sng">
                <a:solidFill>
                  <a:srgbClr val="000080"/>
                </a:solidFill>
                <a:uFillTx/>
                <a:latin typeface="Comic Sans MS"/>
              </a:rPr>
              <a:t>3-й закон –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ая дисциплину, ребенок 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осознает, что ведет себя не правильно, но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жет не осознавать, что за этим  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арушениям    стоит определенная цель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или     причина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3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93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Прежде всего нам необходимо дать точное определение поведению, которое, на Ваш взгляд, является нежелательным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Это может оказаться не так легко!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Бывают очевидные проблемы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дерется, грубит, убегает….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одобные формы поведения проявляются ярко и их  легко отнести к категории нежелательных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Однако бывают и менее явные проблемы:</a:t>
            </a: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ебенок может плакать, отказываться выполнять инструкции или просто не реагировать на Вас… Давайте посмотрим, как мы понимаем 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80"/>
                </a:solidFill>
                <a:latin typeface="Comic Sans MS"/>
              </a:rPr>
              <a:t>нежелательное поведение»</a:t>
            </a:r>
            <a:r>
              <a:rPr b="1" lang="ru-RU" sz="24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Picture 7" descr="ar3"/>
          <p:cNvPicPr/>
          <p:nvPr/>
        </p:nvPicPr>
        <p:blipFill>
          <a:blip r:embed="rId1"/>
          <a:stretch/>
        </p:blipFill>
        <p:spPr>
          <a:xfrm rot="2935800">
            <a:off x="6276600" y="187632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r3"/>
          <p:cNvPicPr/>
          <p:nvPr/>
        </p:nvPicPr>
        <p:blipFill>
          <a:blip r:embed="rId2"/>
          <a:stretch/>
        </p:blipFill>
        <p:spPr>
          <a:xfrm rot="2935800">
            <a:off x="7648200" y="431460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r3"/>
          <p:cNvPicPr/>
          <p:nvPr/>
        </p:nvPicPr>
        <p:blipFill>
          <a:blip r:embed="rId3"/>
          <a:stretch/>
        </p:blipFill>
        <p:spPr>
          <a:xfrm>
            <a:off x="7696080" y="6172200"/>
            <a:ext cx="62892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r3"/>
          <p:cNvPicPr/>
          <p:nvPr/>
        </p:nvPicPr>
        <p:blipFill>
          <a:blip r:embed="rId4"/>
          <a:stretch/>
        </p:blipFill>
        <p:spPr>
          <a:xfrm>
            <a:off x="8515440" y="6172200"/>
            <a:ext cx="628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Comic Sans MS"/>
              </a:rPr>
              <a:t>Необходимо выделить задачи для решения проблемы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39" name="Organization Chart 3"/>
          <p:cNvGrpSpPr/>
          <p:nvPr/>
        </p:nvGrpSpPr>
        <p:grpSpPr>
          <a:xfrm>
            <a:off x="380880" y="1542960"/>
            <a:ext cx="8533080" cy="5225400"/>
            <a:chOff x="380880" y="1542960"/>
            <a:chExt cx="8533080" cy="5225400"/>
          </a:xfrm>
        </p:grpSpPr>
        <p:cxnSp>
          <p:nvCxnSpPr>
            <p:cNvPr id="140" name="_s1028"/>
            <p:cNvCxnSpPr>
              <a:stCxn id="141" idx="1"/>
              <a:endCxn id="142" idx="2"/>
            </p:cNvCxnSpPr>
            <p:nvPr/>
          </p:nvCxnSpPr>
          <p:spPr>
            <a:xfrm rot="10800000">
              <a:off x="2940120" y="2288520"/>
              <a:ext cx="853920" cy="41061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3" name="_s1029"/>
            <p:cNvCxnSpPr>
              <a:stCxn id="144" idx="1"/>
              <a:endCxn id="142" idx="2"/>
            </p:cNvCxnSpPr>
            <p:nvPr/>
          </p:nvCxnSpPr>
          <p:spPr>
            <a:xfrm rot="10800000">
              <a:off x="2940120" y="2288520"/>
              <a:ext cx="853920" cy="298692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5" name="_s1030"/>
            <p:cNvCxnSpPr>
              <a:stCxn id="146" idx="1"/>
              <a:endCxn id="142" idx="2"/>
            </p:cNvCxnSpPr>
            <p:nvPr/>
          </p:nvCxnSpPr>
          <p:spPr>
            <a:xfrm rot="10800000">
              <a:off x="2940120" y="2288520"/>
              <a:ext cx="853920" cy="186696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cxnSp>
          <p:nvCxnSpPr>
            <p:cNvPr id="147" name="_s1031"/>
            <p:cNvCxnSpPr>
              <a:stCxn id="148" idx="1"/>
              <a:endCxn id="142" idx="2"/>
            </p:cNvCxnSpPr>
            <p:nvPr/>
          </p:nvCxnSpPr>
          <p:spPr>
            <a:xfrm rot="10800000">
              <a:off x="2940120" y="2288520"/>
              <a:ext cx="853920" cy="747000"/>
            </a:xfrm>
            <a:prstGeom prst="bentConnector2">
              <a:avLst/>
            </a:prstGeom>
            <a:ln w="28440">
              <a:solidFill>
                <a:srgbClr val="000080"/>
              </a:solidFill>
              <a:miter/>
            </a:ln>
          </p:spPr>
        </p:cxnSp>
        <p:sp>
          <p:nvSpPr>
            <p:cNvPr id="142" name="_s1032"/>
            <p:cNvSpPr/>
            <p:nvPr/>
          </p:nvSpPr>
          <p:spPr>
            <a:xfrm>
              <a:off x="380880" y="15429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Comic Sans MS"/>
                </a:rPr>
                <a:t>Основные задачи</a:t>
              </a:r>
              <a:endParaRPr b="0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8" name="_s1033"/>
            <p:cNvSpPr/>
            <p:nvPr/>
          </p:nvSpPr>
          <p:spPr>
            <a:xfrm>
              <a:off x="3794040" y="266256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Объективно описать поведения ребенка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6" name="_s1034"/>
            <p:cNvSpPr/>
            <p:nvPr/>
          </p:nvSpPr>
          <p:spPr>
            <a:xfrm>
              <a:off x="3794040" y="37825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Понять мотив «плохого» поведения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4" name="_s1035"/>
            <p:cNvSpPr/>
            <p:nvPr/>
          </p:nvSpPr>
          <p:spPr>
            <a:xfrm>
              <a:off x="3794040" y="490212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Выбрать технику(</a:t>
              </a:r>
              <a:r>
                <a:rPr b="1" lang="en-US" sz="1600" spc="-1" strike="noStrike">
                  <a:solidFill>
                    <a:srgbClr val="000080"/>
                  </a:solidFill>
                  <a:latin typeface="Comic Sans MS"/>
                </a:rPr>
                <a:t>для прекращения выходки)</a:t>
              </a:r>
              <a:endParaRPr b="0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3794040" y="6022080"/>
              <a:ext cx="5119920" cy="746280"/>
            </a:xfrm>
            <a:prstGeom prst="roundRect">
              <a:avLst>
                <a:gd name="adj" fmla="val 16667"/>
              </a:avLst>
            </a:prstGeom>
            <a:solidFill>
              <a:srgbClr val="d4e0f4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Comic Sans MS"/>
                </a:rPr>
                <a:t>Разработать стратегию и тактику</a:t>
              </a:r>
              <a:endParaRPr b="0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pic>
          <p:nvPicPr>
            <p:cNvPr id="149" name="Picture 19" descr=""/>
            <p:cNvPicPr/>
            <p:nvPr/>
          </p:nvPicPr>
          <p:blipFill>
            <a:blip r:embed="rId1"/>
            <a:stretch/>
          </p:blipFill>
          <p:spPr>
            <a:xfrm>
              <a:off x="1749960" y="2589840"/>
              <a:ext cx="7578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2"/>
            <a:stretch/>
          </p:blipFill>
          <p:spPr>
            <a:xfrm>
              <a:off x="1749960" y="3504960"/>
              <a:ext cx="7750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3"/>
            <a:stretch/>
          </p:blipFill>
          <p:spPr>
            <a:xfrm>
              <a:off x="1749960" y="4419720"/>
              <a:ext cx="775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4"/>
            <a:stretch/>
          </p:blipFill>
          <p:spPr>
            <a:xfrm>
              <a:off x="1749960" y="5485320"/>
              <a:ext cx="781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80"/>
                </a:solidFill>
                <a:latin typeface="Comic Sans MS"/>
              </a:rPr>
              <a:t>Причины нарушения поведения</a:t>
            </a:r>
            <a:endParaRPr b="0" lang="en-US" sz="4200" spc="-1" strike="noStrike">
              <a:solidFill>
                <a:srgbClr val="3366cc"/>
              </a:solidFill>
              <a:latin typeface="Arial Black"/>
            </a:endParaRPr>
          </a:p>
        </p:txBody>
      </p:sp>
      <p:grpSp>
        <p:nvGrpSpPr>
          <p:cNvPr id="154" name="Diagram 3"/>
          <p:cNvGrpSpPr/>
          <p:nvPr/>
        </p:nvGrpSpPr>
        <p:grpSpPr>
          <a:xfrm>
            <a:off x="838080" y="1752480"/>
            <a:ext cx="7872480" cy="4191120"/>
            <a:chOff x="838080" y="1752480"/>
            <a:chExt cx="7872480" cy="4191120"/>
          </a:xfrm>
        </p:grpSpPr>
        <p:sp>
          <p:nvSpPr>
            <p:cNvPr id="155" name="_s2052"/>
            <p:cNvSpPr/>
            <p:nvPr/>
          </p:nvSpPr>
          <p:spPr>
            <a:xfrm>
              <a:off x="3957480" y="2381400"/>
              <a:ext cx="1686240" cy="168588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>
              <a:off x="3048120" y="1752480"/>
              <a:ext cx="3962160" cy="493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Привлечение внимания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>
              <a:off x="4599000" y="3022560"/>
              <a:ext cx="1685880" cy="1685880"/>
            </a:xfrm>
            <a:prstGeom prst="ellipse">
              <a:avLst/>
            </a:prstGeom>
            <a:solidFill>
              <a:srgbClr val="9933ff">
                <a:alpha val="50000"/>
              </a:srgbClr>
            </a:solidFill>
            <a:ln w="46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>
              <a:off x="6477120" y="3657600"/>
              <a:ext cx="2233440" cy="458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Вла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59" name="_s2056"/>
            <p:cNvSpPr/>
            <p:nvPr/>
          </p:nvSpPr>
          <p:spPr>
            <a:xfrm>
              <a:off x="3957480" y="3664080"/>
              <a:ext cx="1686240" cy="16858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0" name="_s2057"/>
            <p:cNvSpPr/>
            <p:nvPr/>
          </p:nvSpPr>
          <p:spPr>
            <a:xfrm>
              <a:off x="3124080" y="5562720"/>
              <a:ext cx="3810240" cy="38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Избегание неудач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1" name="_s2058"/>
            <p:cNvSpPr/>
            <p:nvPr/>
          </p:nvSpPr>
          <p:spPr>
            <a:xfrm>
              <a:off x="3316320" y="3022560"/>
              <a:ext cx="1685880" cy="1685880"/>
            </a:xfrm>
            <a:prstGeom prst="ellipse">
              <a:avLst/>
            </a:prstGeom>
            <a:solidFill>
              <a:srgbClr val="7a7c93">
                <a:alpha val="50000"/>
              </a:srgbClr>
            </a:solidFill>
            <a:ln w="4680">
              <a:solidFill>
                <a:srgbClr val="7a7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62" name="_s2059"/>
            <p:cNvSpPr/>
            <p:nvPr/>
          </p:nvSpPr>
          <p:spPr>
            <a:xfrm>
              <a:off x="838080" y="3657600"/>
              <a:ext cx="2309760" cy="534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Comic Sans MS"/>
                </a:rPr>
                <a:t>Месть</a:t>
              </a:r>
              <a:endParaRPr b="0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Привлечение внимания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привлечения внимания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Родители и учителя больше внимания уделяют детям, которые ведут себя плохо, а не хорош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не научены просить внимания в приемлемой форме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Дети часто испытывают дефицит личного внимания к себе, чувствуют себя «пустым местом»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Arial"/>
              </a:rPr>
              <a:t>Реакция взрослого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раздраж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возмущение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словесные замечания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- угроз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4" descr="an21"/>
          <p:cNvPicPr/>
          <p:nvPr/>
        </p:nvPicPr>
        <p:blipFill>
          <a:blip r:embed="rId1"/>
          <a:stretch/>
        </p:blipFill>
        <p:spPr>
          <a:xfrm>
            <a:off x="1523880" y="49528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Власть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Природа данного поведения</a:t>
            </a:r>
            <a:r>
              <a:rPr b="0" lang="ru-RU" sz="2800" spc="-1" strike="noStrike" u="sng">
                <a:solidFill>
                  <a:srgbClr val="61636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Мода на «сильную личность» учит утверждению своей силы, а не конструктивному подчинению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сутствие в нашем обществе установки «Кто имеет власть, тот имеет все!»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Гнев, негодование, страх ( не справиться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Немедленно прекратить выходку с помощью физического воздействия (встряхнуть, ударить…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5" descr="an99"/>
          <p:cNvPicPr/>
          <p:nvPr/>
        </p:nvPicPr>
        <p:blipFill>
          <a:blip r:embed="rId1"/>
          <a:stretch/>
        </p:blipFill>
        <p:spPr>
          <a:xfrm>
            <a:off x="838080" y="304920"/>
            <a:ext cx="19814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80"/>
                </a:solidFill>
                <a:uFillTx/>
                <a:latin typeface="Comic Sans MS"/>
              </a:rPr>
              <a:t>Избегание неудач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Природа поведения, направленного на избегание неудач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Отношение у ребенка к заданиям и просьбам изначально предвзятое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Необоснованные ожидания родителей и учителей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Вера ребенка, что ему подходит быть  только самым-самым!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Comic Sans MS"/>
              </a:rPr>
              <a:t>Упор на соревнования, сравнения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80"/>
                </a:solidFill>
                <a:uFillTx/>
                <a:latin typeface="Comic Sans MS"/>
              </a:rPr>
              <a:t>Реакция взрослого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Чувство беспомощност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Comic Sans MS"/>
              </a:rPr>
              <a:t>Хочется оправдаться и объяснить поведение ребенка (иногда с помощью специалиста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6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tter</dc:creator>
  <dc:description/>
  <dc:language>en-US</dc:language>
  <cp:lastModifiedBy>Otter</cp:lastModifiedBy>
  <dcterms:modified xsi:type="dcterms:W3CDTF">2022-02-02T06:38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